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2E2-FEBC-4085-BA46-A079772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766-D298-4728-8D7B-C8CAF349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164-98AD-41DB-9A49-3C9184DF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BE2-BE6B-4898-88CB-DC6AFD64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990-C0D2-4DAC-8A95-F51A7FB8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D56-BFD8-40AB-AC8F-89BDFB9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E5D-15A4-4DFD-B54F-CEDB648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039-2CB0-4611-8FE5-5094146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13F-CFEE-4F30-92D8-47A28A03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CCE-BA9D-4540-96B2-8FCBDEE9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A10-6491-48F6-80D0-58683DF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66D-0359-4F8B-9FE2-3CA5F18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42A-C706-48E9-8F38-B2F09A343F16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alpinivalgrigna.it/HomePage.html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t.wikipedia.org/wiki/Maggio" TargetMode="External"/><Relationship Id="rId3" Type="http://schemas.openxmlformats.org/officeDocument/2006/relationships/hyperlink" Target="http://it.wikipedia.org/wiki/Italia" TargetMode="External"/><Relationship Id="rId4" Type="http://schemas.openxmlformats.org/officeDocument/2006/relationships/hyperlink" Target="http://it.wikipedia.org/wiki/Associazione_Nazionale_Alpini" TargetMode="External"/><Relationship Id="rId5" Type="http://schemas.openxmlformats.org/officeDocument/2006/relationships/hyperlink" Target="http://it.wikipedia.org/wiki/Monte_Ortigara" TargetMode="External"/><Relationship Id="rId6" Type="http://schemas.openxmlformats.org/officeDocument/2006/relationships/hyperlink" Target="http://it.wikipedia.org/wiki/Monte_Ortigara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5462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Le adunate degli alpi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stituto  Comprensivo di Bie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uola Prim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lisa Martinelli   5^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corso - alp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no scolastico 2012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876920"/>
            <a:ext cx="1143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NO DEGLI ALP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666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 labaro è un vessillo con asta e drappo quadrato; nota insegna costantiniana e quindi medioevale, oggi adottata come insegna di associazioni di combattenti o di reparti milita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2703600"/>
            <a:ext cx="5257800" cy="407808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p:transition spd="slow" advTm="1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volontari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69244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124080" y="2209680"/>
            <a:ext cx="6019920" cy="399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358128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tervista al Presidente del Gruppo Alpini di Bienno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ig. Giovanbattista Za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789280"/>
            <a:ext cx="9144000" cy="4068720"/>
          </a:xfrm>
          <a:prstGeom prst="rect">
            <a:avLst/>
          </a:prstGeom>
          <a:solidFill>
            <a:srgbClr val="003399">
              <a:alpha val="61000"/>
            </a:srgbClr>
          </a:solidFill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g. Zanella,  lei ha partecipato a qualche azione militar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Ho fatto esercitazioni paramilitari, per esempio passo di guerra, esercit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ai tiri con mitragliatrice M.G.-O-GARANT semiautomatico, ma non ho mai partecipato ad azioni milit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solito partecipa alle adunate degli alpi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Sì,  sempre . La mia prima adunata nazionale risale al 1986, a Berg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e n’è una che ricorda con particolare emo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L’adunata che ricordo con commozione è quella di Bari per l’ospitalità della 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l è lo scopo di queste adun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È l’incontro tra commilitoni che intendono tener vivo lo spirito di amicizia e l’amore per il nostro paese. Questi incontri sono rallegrati da fanfare, cori, canti popolari, tante strette di mano e abbrac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04920"/>
            <a:ext cx="2447640" cy="2065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solidFill>
            <a:srgbClr val="3366ff">
              <a:alpha val="6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trabicco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20794200">
            <a:off x="1066680" y="1523880"/>
            <a:ext cx="746784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5257800" cy="2087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La costituzione della Repubblica  Ital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8534520" cy="3886200"/>
          </a:xfrm>
          <a:prstGeom prst="rect">
            <a:avLst/>
          </a:prstGeom>
          <a:solidFill>
            <a:srgbClr val="00ff00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Articolo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Brush Script MT"/>
              </a:rPr>
              <a:t>L’Italia ripudia la guerra come strumento di offesa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 alla libertà degli altri popoli e come mezzo di risoluzione delle controversie internazionali; consente,in condizioni di parità con gli altri Stati, alle limitazioni di sovranità necessarie ad un ordinamento che assicuri la pace e la giustizia fra le Nazioni; promuove e favorisce le organizzazioni internazionali rivolte a tale scopo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59280" y="457200"/>
            <a:ext cx="262440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’esercito ita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l nostro Esercito allinea sei Armi e tre Corp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e prime sono le Armi di Fanteria, Cavalleria, Artiglieria, Genio, Trasmissioni, Trasporti e Materi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 Corpi sono il Corpo Sanitario dell'Esercito, il Corpo di Amministrazione e Commissariato dell'Esercito, il Corpo degli Ingegneri dell'Esercito.</a:t>
            </a:r>
            <a:br>
              <a:rPr sz="2000"/>
            </a:br>
            <a:br>
              <a:rPr sz="900"/>
            </a:br>
            <a:r>
              <a:rPr b="1" lang="en-US" sz="9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62520" y="3662280"/>
            <a:ext cx="4800600" cy="319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4268880"/>
            <a:ext cx="3962520" cy="2589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Gli Alp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Gli alpini sono una specialità dell'Arma di Fanteria dell'esercito italiano.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Blackadder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4495680" cy="33796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p:transition spd="slow" advTm="1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Le origini del Corpo degli Alp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solidFill>
            <a:srgbClr val="ff99cc">
              <a:alpha val="4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a nascita del Corpo avviene nel 1872: completato il processo di unità nazionale, il Regno d'Italia si trovava ad affrontare il problema della difesa dei propri confini terrestri, che coincidevano quasi interamente con l'arco alpin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l reclutamento locale, oltre a fornire uomini già abituati alla dura vita in montagna, era un forte elemento di coesione, che determinò fin da allora l'elevato spirito di corpo delle Truppe Al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egli anni seguenti gli Alpini furono  impiegati in terra d'Africa in occasione della II Campagna d'Eritrea del 1896-97 e della Guerra di Libia del 1911, dando prova di valore e di non comune capacità di adattament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l 13 novembre 1902, dopo un periodo di sperimentazione nel 3º reggimento, gli alpini vennero dotati degli s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irito alp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volontar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zione civil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micizia ed il divertimento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bic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i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62520" y="3303720"/>
            <a:ext cx="5181480" cy="3444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 adunata nazion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'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Adunata Nazionale degli Alpini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 è una manifestazione a cadenza annuale che si svolge generalmente la seconda domenica di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gio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 in una città d'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talia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 scelta di volta in volta dal Consiglio Direttivo Nazionale dell'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sociazione Nazionale Alpini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 per ricordare la prima adunata spontanea tenutasi sul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nte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tigara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, nel vicentin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14800" y="5562720"/>
            <a:ext cx="4952880" cy="1218960"/>
          </a:xfrm>
          <a:prstGeom prst="rect">
            <a:avLst/>
          </a:prstGeom>
          <a:solidFill>
            <a:srgbClr val="ffffcc">
              <a:alpha val="89000"/>
            </a:srgbClr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ima adunata alpina Ortigara 19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’INNO DI MAM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06:29Z</dcterms:created>
  <dc:creator>Ospite</dc:creator>
  <dc:description/>
  <dc:language>en-US</dc:language>
  <cp:lastModifiedBy>dsga</cp:lastModifiedBy>
  <dcterms:modified xsi:type="dcterms:W3CDTF">2013-01-29T15:06:2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