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1C294D-2E58-4CAE-87CC-3D7F8DFF7D6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6EF90-4D94-474F-B61A-0BB19DEEC55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92A99D-244B-4D56-9071-6B1BD69A6A6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913D00-B977-4461-9FD1-5F5ACF94114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CF7AC-4E55-4372-8A55-9ED4EC2D702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0200" cy="40068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65011-C889-4DB8-B849-833CF69AE21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9C28F-354A-404A-8D94-7D7F753FA44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E8CFA-037E-448E-BFFB-97CAB1DC408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AE382C-66F6-408F-83C8-67D167A9420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092E4-26ED-4E93-B242-D695B8B2756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C98215-A238-4E0E-A7C8-F299D19D8D2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7CE03-310B-4492-BAF0-7CBE26B8EF0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D79F40-CB3A-4874-B5F8-2CCFD77F759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3CDE-55D4-469E-9F08-710368BB6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4040" cy="1790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" y="3476880"/>
            <a:ext cx="8744040" cy="1790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C9BB-A861-4260-92CE-4D2D44FE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1790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1790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280" y="3476880"/>
            <a:ext cx="4267080" cy="1790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6200" y="3476880"/>
            <a:ext cx="4267080" cy="1790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D7F7-D6E1-4911-9EA5-2FD02DF89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2815200" cy="1790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1600" y="1515600"/>
            <a:ext cx="2815200" cy="1790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7920" y="1515600"/>
            <a:ext cx="2815200" cy="1790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280" y="3476880"/>
            <a:ext cx="2815200" cy="1790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1600" y="3476880"/>
            <a:ext cx="2815200" cy="1790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7920" y="3476880"/>
            <a:ext cx="2815200" cy="1790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5806-FBBE-458B-AC59-AA354C8DC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280" y="1515600"/>
            <a:ext cx="87440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BD3E-FBB3-4919-97F6-5BBB6143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87440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9F90-7CDF-4816-A4F7-A339E728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7A26-B237-47EC-A283-424C372F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7CAD-1696-49B6-9D0E-FF729456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280" y="258840"/>
            <a:ext cx="874404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08D8-4064-4A62-8437-86F013AC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1790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280" y="3476880"/>
            <a:ext cx="4267080" cy="1790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FBC4-33C9-4B4B-A68E-6E54E3A5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1790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6200" y="3476880"/>
            <a:ext cx="4267080" cy="1790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3399-CD4A-4D95-89D3-8D8A682C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280" y="1515600"/>
            <a:ext cx="4267080" cy="1790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6200" y="1515600"/>
            <a:ext cx="4267080" cy="1790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280" y="3476880"/>
            <a:ext cx="8744040" cy="17906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35C8-8840-4F55-BC74-167349FD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515600"/>
            <a:ext cx="87440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5904000"/>
            <a:ext cx="226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4240" y="5904000"/>
            <a:ext cx="30780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8880" y="5904000"/>
            <a:ext cx="22604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8ACF6-9EED-40DC-B453-8DD9A407F127}" type="slidenum">
              <a:rPr b="0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720360" cy="6480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79280" y="3123720"/>
            <a:ext cx="8746920" cy="20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800" spc="-1" strike="noStrike">
                <a:solidFill>
                  <a:srgbClr val="ff420e"/>
                </a:solidFill>
                <a:latin typeface="Comic Sans MS"/>
              </a:rPr>
              <a:t>ALICE DAMIOLA</a:t>
            </a:r>
            <a:br>
              <a:rPr sz="3800"/>
            </a:br>
            <a:r>
              <a:rPr b="1" i="1" lang="it-IT" sz="3800" spc="-1" strike="noStrike">
                <a:solidFill>
                  <a:srgbClr val="ff420e"/>
                </a:solidFill>
                <a:latin typeface="Comic Sans MS"/>
              </a:rPr>
              <a:t>CLASSE 3</a:t>
            </a:r>
            <a:r>
              <a:rPr b="1" i="1" lang="en-US" sz="3800" spc="-1" strike="noStrike">
                <a:solidFill>
                  <a:srgbClr val="ff420e"/>
                </a:solidFill>
                <a:latin typeface="Comic Sans MS"/>
              </a:rPr>
              <a:t>ª</a:t>
            </a:r>
            <a:r>
              <a:rPr b="1" i="1" lang="it-IT" sz="3800" spc="-1" strike="noStrike">
                <a:solidFill>
                  <a:srgbClr val="ff420e"/>
                </a:solidFill>
                <a:latin typeface="Comic Sans MS"/>
              </a:rPr>
              <a:t> A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00SONO~126122.WAV" descr=""/>
          <p:cNvPicPr/>
          <p:nvPr/>
        </p:nvPicPr>
        <p:blipFill>
          <a:blip r:embed="rId2"/>
          <a:stretch/>
        </p:blipFill>
        <p:spPr>
          <a:xfrm>
            <a:off x="9415440" y="144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85640" y="30276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20360" cy="6480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271840" y="42840"/>
            <a:ext cx="426852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700" spc="-1" strike="noStrike">
                <a:solidFill>
                  <a:srgbClr val="dc2300"/>
                </a:solidFill>
                <a:latin typeface="Arial"/>
              </a:rPr>
              <a:t>C'è un paio di scarpette rosse a Buckenwald quasi nuove perchè i piedini dei bambini morti non consumano le suo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wheel spokes="8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6480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700200" y="320760"/>
            <a:ext cx="86598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800" spc="-1" strike="noStrike">
                <a:solidFill>
                  <a:srgbClr val="ff950e"/>
                </a:solidFill>
                <a:latin typeface="Lucida Calligraphy"/>
              </a:rPr>
              <a:t>«Quando non si riesce a dimenticare, si prova a perdonare»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200" spc="-1" strike="noStrike">
                <a:solidFill>
                  <a:srgbClr val="ff950e"/>
                </a:solidFill>
                <a:latin typeface="Arial"/>
              </a:rPr>
              <a:t>Primo Levi</a:t>
            </a:r>
            <a:r>
              <a:rPr b="0" i="1" lang="it-IT" sz="2200" spc="-1" strike="noStrike">
                <a:solidFill>
                  <a:srgbClr val="ff950e"/>
                </a:solidFill>
                <a:latin typeface="Arial"/>
              </a:rPr>
              <a:t>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wheel spokes="8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324000" y="287280"/>
            <a:ext cx="9180360" cy="5759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280" y="1979640"/>
            <a:ext cx="87454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300" spc="-1" strike="noStrike">
                <a:solidFill>
                  <a:srgbClr val="ff0000"/>
                </a:solidFill>
                <a:latin typeface="Arial"/>
              </a:rPr>
              <a:t>Allora per la prima volta ci siamo accorti che la nostra lingua manca di parole per esprimere questa offesa, la demolizione di un uomo.</a:t>
            </a:r>
            <a:br>
              <a:rPr sz="2300"/>
            </a:br>
            <a:r>
              <a:rPr b="0" lang="it-IT" sz="2300" spc="-1" strike="noStrike">
                <a:solidFill>
                  <a:srgbClr val="ff0000"/>
                </a:solidFill>
                <a:latin typeface="Arial"/>
              </a:rPr>
              <a:t>In un attimo, con intuizione quasi profetica, la realtà ci si è rivelata: siamo arrivati in fondo. Più giù di così non si può andare: condizione umana più misera non c’è, e non è pensabile. Nulla è più nostro: ci hanno tolto gli abiti, le scarpe, anche i capelli; se parleremo, non ci ascolteranno, e se ci ascoltassero, non ci capirebbero. </a:t>
            </a:r>
            <a:br>
              <a:rPr sz="2300"/>
            </a:br>
            <a:r>
              <a:rPr b="0" lang="it-IT" sz="2300" spc="-1" strike="noStrike">
                <a:solidFill>
                  <a:srgbClr val="ff0000"/>
                </a:solidFill>
                <a:latin typeface="Arial"/>
              </a:rPr>
              <a:t>Ci toglieranno anche il nome: e se vorremo conservarlo, dovremo trovare in noi la forza di farlo, di fare sì che dietro al nome, qualcosa ancora di noi, di noi quali eravamo, rimang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619280" y="369720"/>
            <a:ext cx="62848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760" bIns="0" anchor="t">
            <a:noAutofit/>
          </a:bodyPr>
          <a:p>
            <a:pPr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Lucida Calligraphy"/>
              </a:rPr>
              <a:t>Da “Se questo è un uomo”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Arial Narrow"/>
              </a:rPr>
              <a:t>PRIMO LEVI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wheel spokes="8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720360" cy="6480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2720" y="1085760"/>
            <a:ext cx="874728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33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800" spc="-1" strike="noStrike">
                <a:solidFill>
                  <a:srgbClr val="ff0000"/>
                </a:solidFill>
                <a:latin typeface="Arial"/>
              </a:rPr>
              <a:t>AUSCHWITZ :</a:t>
            </a:r>
            <a:br>
              <a:rPr sz="3800"/>
            </a:br>
            <a:r>
              <a:rPr b="0" lang="it-IT" sz="3800" spc="-1" strike="noStrike">
                <a:solidFill>
                  <a:srgbClr val="ff0000"/>
                </a:solidFill>
                <a:latin typeface="Arial"/>
              </a:rPr>
              <a:t> IL SIMBOLO DELLA FOLLIA E DELLA BARBARIE NAZISTA </a:t>
            </a:r>
            <a:br>
              <a:rPr sz="3800"/>
            </a:br>
            <a:r>
              <a:rPr b="0" lang="it-IT" sz="3800" spc="-1" strike="noStrike">
                <a:solidFill>
                  <a:srgbClr val="ff0000"/>
                </a:solidFill>
                <a:latin typeface="Arial"/>
              </a:rPr>
              <a:t>CHE TRAVOLSE MIGLIONI</a:t>
            </a:r>
            <a:br>
              <a:rPr sz="3800"/>
            </a:br>
            <a:r>
              <a:rPr b="0" lang="it-IT" sz="3800" spc="-1" strike="noStrike">
                <a:solidFill>
                  <a:srgbClr val="ff0000"/>
                </a:solidFill>
                <a:latin typeface="Arial"/>
              </a:rPr>
              <a:t> DI ANIME INNOCENTI </a:t>
            </a:r>
            <a:br>
              <a:rPr sz="3800"/>
            </a:br>
            <a:r>
              <a:rPr b="0" lang="it-IT" sz="3800" spc="-1" strike="noStrike">
                <a:solidFill>
                  <a:srgbClr val="ff0000"/>
                </a:solidFill>
                <a:latin typeface="Arial"/>
              </a:rPr>
              <a:t>SACRIFICATE A CAUSA </a:t>
            </a:r>
            <a:br>
              <a:rPr sz="3800"/>
            </a:br>
            <a:r>
              <a:rPr b="0" lang="it-IT" sz="3800" spc="-1" strike="noStrike">
                <a:solidFill>
                  <a:srgbClr val="ff0000"/>
                </a:solidFill>
                <a:latin typeface="Arial"/>
              </a:rPr>
              <a:t>DELLA STUPIDITA UMAN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60720" y="1979640"/>
            <a:ext cx="575928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700" spc="-1" strike="noStrike">
                <a:solidFill>
                  <a:srgbClr val="0099ff"/>
                </a:solidFill>
                <a:latin typeface="Arial"/>
              </a:rPr>
              <a:t>Auschwiz fu fondato il 20 maggio 1940 convertendo delle vecchie caserme dell'esercito polacco in in un campo di sterminio e campo di lavoro. Qui vennero deportati non solo “elementi asociali” per i nazzisti, prigionieri di guerra, criminali, ecc. ma anche tanti bambini.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wheel spokes="8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9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899640" cy="6480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5640" y="244080"/>
            <a:ext cx="8747280" cy="1111320"/>
          </a:xfrm>
          <a:prstGeom prst="rect">
            <a:avLst/>
          </a:prstGeom>
          <a:noFill/>
          <a:ln w="0">
            <a:noFill/>
          </a:ln>
        </p:spPr>
        <p:txBody>
          <a:bodyPr lIns="0" rIns="0" tIns="33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800" spc="-1" strike="noStrike">
                <a:solidFill>
                  <a:srgbClr val="ff0000"/>
                </a:solidFill>
                <a:latin typeface="Arial"/>
              </a:rPr>
              <a:t>UN PAIO DI SCARPETTE ROSSE</a:t>
            </a:r>
            <a:br>
              <a:rPr sz="3800"/>
            </a:br>
            <a:r>
              <a:rPr b="0" lang="it-IT" sz="3800" spc="-1" strike="noStrike">
                <a:solidFill>
                  <a:srgbClr val="ff0000"/>
                </a:solidFill>
                <a:latin typeface="Arial"/>
              </a:rPr>
              <a:t>                                    </a:t>
            </a:r>
            <a:r>
              <a:rPr b="0" i="1" lang="it-IT" sz="3800" spc="-1" strike="noStrike">
                <a:solidFill>
                  <a:srgbClr val="ff0000"/>
                </a:solidFill>
                <a:latin typeface="Arial"/>
              </a:rPr>
              <a:t>di Joyce Lussu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0360" y="4182840"/>
            <a:ext cx="4268880" cy="4276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700" spc="-1" strike="noStrike">
                <a:solidFill>
                  <a:srgbClr val="ff8080"/>
                </a:solidFill>
                <a:latin typeface="Arial"/>
              </a:rPr>
              <a:t>C'è un paio di scarpette rosse numero ventiquattro quasi nuov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wheel spokes="8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5640" y="30276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-179280"/>
            <a:ext cx="9720360" cy="66592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1840" y="539640"/>
            <a:ext cx="42688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700" spc="-1" strike="noStrike">
                <a:solidFill>
                  <a:srgbClr val="ff8080"/>
                </a:solidFill>
                <a:latin typeface="Arial"/>
              </a:rPr>
              <a:t>Sulla suola interna si vede ancora la marca di fabbrica “Shulze Monaco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wheel spokes="8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85640" y="30276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-179280"/>
            <a:ext cx="9899640" cy="66592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760" y="4543200"/>
            <a:ext cx="4268880" cy="42764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700" spc="-1" strike="noStrike">
                <a:solidFill>
                  <a:srgbClr val="ff8080"/>
                </a:solidFill>
                <a:latin typeface="Arial"/>
              </a:rPr>
              <a:t>C'è un paio di scarpette rosse in cima a un mucchio di scarpette infantili a Buckenwal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wheel spokes="8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85640" y="30276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20360" cy="6480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223920"/>
            <a:ext cx="42688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700" spc="-1" strike="noStrike">
                <a:solidFill>
                  <a:srgbClr val="dc2300"/>
                </a:solidFill>
                <a:latin typeface="Arial"/>
              </a:rPr>
              <a:t>Erano di un bambino di tre anni e mezzo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wheel spokes="8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85640" y="30276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-360360"/>
            <a:ext cx="9720360" cy="68403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219640" y="5219640"/>
            <a:ext cx="42688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700" spc="-1" strike="noStrike">
                <a:solidFill>
                  <a:srgbClr val="ff8080"/>
                </a:solidFill>
                <a:latin typeface="Arial"/>
              </a:rPr>
              <a:t>Chi sa di che colore erano gli occhi bruciati nei forn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wheel spokes="8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720360" cy="6480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0720" y="521928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Anche i suoi piedini li possiamo immagin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80" y="179280"/>
            <a:ext cx="42688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700" spc="-1" strike="noStrike">
                <a:solidFill>
                  <a:srgbClr val="dc2300"/>
                </a:solidFill>
                <a:latin typeface="Arial"/>
              </a:rPr>
              <a:t>Ma il suo pianto lo possiamo immaginare si sa come piangono i bambin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wheel spokes="8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85640" y="30276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20360" cy="6480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0000" y="3959280"/>
            <a:ext cx="3419640" cy="23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700" spc="-1" strike="noStrike">
                <a:solidFill>
                  <a:srgbClr val="dc2300"/>
                </a:solidFill>
                <a:latin typeface="Arial"/>
              </a:rPr>
              <a:t>Scarpa numero ventiquattro per l'eternità perchè i piedini dei bambini morti non crescon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wheel spokes="8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19:19:20Z</dcterms:created>
  <dc:creator>Cristiano</dc:creator>
  <dc:description/>
  <dc:language>en-US</dc:language>
  <cp:lastModifiedBy>Cristiano Re</cp:lastModifiedBy>
  <dcterms:modified xsi:type="dcterms:W3CDTF">2013-04-04T16:24:19Z</dcterms:modified>
  <cp:revision>16</cp:revision>
  <dc:subject/>
  <dc:title>ALICE DAMIOLA CLASSE 3° A</dc:title>
</cp:coreProperties>
</file>