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66255-4D25-4A03-9254-BCC8B8DA6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00B8C-C202-4B58-ADBC-77B36648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ADDD1-2F16-49AC-A4DD-1C0F33153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0CE4D-2CFB-44CF-A96D-788B7BF13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3B64A-5437-4389-A38F-AD4E4ECD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470E6-CE2A-4CC7-9900-CDFA2333B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D8BCD-DBF6-4265-AF0F-8F232E2A0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5CCA-61D4-4969-9FD7-E3C4FB818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B463-B505-44B6-B04E-F7D2EEB60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FEB0-7813-4676-AE39-D7CDA932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58420-D6A2-4BB0-B89D-820E132D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D456-2AD1-46B7-8DA3-7843EFBCE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6CFA-AE29-47D1-A970-EEED56BB67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852280"/>
            <a:ext cx="8229600" cy="1143000"/>
          </a:xfrm>
          <a:prstGeom prst="rect">
            <a:avLst/>
          </a:prstGeom>
          <a:noFill/>
          <a:ln w="9360">
            <a:solidFill>
              <a:srgbClr val="cc00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 Campi di Concentramento</a:t>
            </a:r>
            <a:endParaRPr b="0" lang="en-US" sz="4800" spc="-1" strike="noStrike">
              <a:solidFill>
                <a:srgbClr val="000000"/>
              </a:solidFill>
              <a:latin typeface="Arial"/>
            </a:endParaRPr>
          </a:p>
        </p:txBody>
      </p:sp>
      <p:sp>
        <p:nvSpPr>
          <p:cNvPr id="42" name="PlaceHolder 2"/>
          <p:cNvSpPr>
            <a:spLocks noGrp="1"/>
          </p:cNvSpPr>
          <p:nvPr>
            <p:ph/>
          </p:nvPr>
        </p:nvSpPr>
        <p:spPr>
          <a:xfrm>
            <a:off x="684360" y="4437000"/>
            <a:ext cx="7991280" cy="1440000"/>
          </a:xfrm>
          <a:prstGeom prst="rect">
            <a:avLst/>
          </a:prstGeom>
          <a:solidFill>
            <a:srgbClr val="ffff66"/>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oncor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Proposto dall’ Intergruppo Alpini della ValGrign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txBox="1"/>
          <p:nvPr/>
        </p:nvSpPr>
        <p:spPr>
          <a:xfrm>
            <a:off x="2410920" y="691920"/>
            <a:ext cx="6481800" cy="2089080"/>
          </a:xfrm>
          <a:prstGeom prst="rect">
            <a:avLst/>
          </a:prstGeom>
          <a:solidFill>
            <a:srgbClr val="bbe0e3"/>
          </a:solidFill>
          <a:ln w="0">
            <a:noFill/>
          </a:ln>
        </p:spPr>
        <p:txBody>
          <a:bodyPr lIns="90000" rIns="90000" tIns="46800" bIns="46800"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stituto Comprensivo   G. Romanino               Scuola Secondaria 1° Grado </a:t>
            </a: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Classe 3 A</a:t>
            </a: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Anno Scolastico 2012-2013</a:t>
            </a: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44" name="" descr=""/>
          <p:cNvPicPr/>
          <p:nvPr/>
        </p:nvPicPr>
        <p:blipFill>
          <a:blip r:embed="rId1"/>
          <a:stretch/>
        </p:blipFill>
        <p:spPr>
          <a:xfrm>
            <a:off x="539640" y="54936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 nostre motivazioni</a:t>
            </a:r>
            <a:endParaRPr b="0" lang="en-US" sz="5400" spc="-1" strike="noStrike">
              <a:solidFill>
                <a:srgbClr val="000000"/>
              </a:solidFill>
              <a:latin typeface="Arial"/>
            </a:endParaRPr>
          </a:p>
        </p:txBody>
      </p:sp>
      <p:sp>
        <p:nvSpPr>
          <p:cNvPr id="4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Noi alunni della classe 3 A della scuola secondaria di Bienno abbiamo accolto positivamente la proposta del gruppo Alpini Valgrigna. L’ argomento ci ha particolarmente interessato: da un lato è oggetto di studio in 3 media, ma soprattutto riteniamo che la shoah debba restare nella memoria di ognuno di noi per evitare che simili tragedie si possano ripetere. Noi giovani non abbiamo vissuto direttamente il periodo in questione, ma proprio per questo dobbiamo raccogliere le testimonianze (sia dirette che attraverso lo studio) per fare in modo che le future generazion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u="sng">
                <a:solidFill>
                  <a:srgbClr val="000000"/>
                </a:solidFill>
                <a:uFillTx/>
                <a:latin typeface="Arial"/>
              </a:rPr>
              <a:t>NON POSSANO DIMENTICAR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nco Alunni Partecipanti</a:t>
            </a:r>
            <a:endParaRPr b="0" lang="en-US" sz="4400" spc="-1" strike="noStrike">
              <a:solidFill>
                <a:srgbClr val="000000"/>
              </a:solidFill>
              <a:latin typeface="Arial"/>
            </a:endParaRPr>
          </a:p>
        </p:txBody>
      </p:sp>
      <p:pic>
        <p:nvPicPr>
          <p:cNvPr id="48" name="" descr=""/>
          <p:cNvPicPr/>
          <p:nvPr/>
        </p:nvPicPr>
        <p:blipFill>
          <a:blip r:embed="rId1"/>
          <a:stretch/>
        </p:blipFill>
        <p:spPr>
          <a:xfrm>
            <a:off x="3132000" y="1268280"/>
            <a:ext cx="5832720" cy="4700880"/>
          </a:xfrm>
          <a:prstGeom prst="rect">
            <a:avLst/>
          </a:prstGeom>
          <a:ln w="0">
            <a:noFill/>
          </a:ln>
        </p:spPr>
      </p:pic>
      <p:sp>
        <p:nvSpPr>
          <p:cNvPr id="49" name=""/>
          <p:cNvSpPr/>
          <p:nvPr/>
        </p:nvSpPr>
        <p:spPr>
          <a:xfrm>
            <a:off x="0" y="907920"/>
            <a:ext cx="8447040" cy="5761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vanzini Cristin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ontempi Luc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miola Alice</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l Attar Ahmed</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rcoli Robert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ilesi Elisabett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nchieri Davide</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relli Claudio</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garo Ev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nteghini Alfredo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loni Laur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ni Matteo</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detic Valentin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rini Marco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adacini Chiara</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pini Ivan</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ombini Alessandro</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ira Desirèe</a:t>
            </a:r>
            <a:endParaRPr b="0"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0T08:40:15Z</dcterms:created>
  <dc:creator>utente</dc:creator>
  <dc:description/>
  <dc:language>en-US</dc:language>
  <cp:lastModifiedBy>utente</cp:lastModifiedBy>
  <dcterms:modified xsi:type="dcterms:W3CDTF">2013-01-25T08:32:01Z</dcterms:modified>
  <cp:revision>12</cp:revision>
  <dc:subject/>
  <dc:title>I Campi di Concentramento</dc:title>
</cp:coreProperties>
</file>