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D1EF0-6E09-48D1-BA8D-C5EDEA41A77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DA56A-F86D-4AAF-81A9-1B020B6C3B5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8E3E8-30FD-4BAC-A003-E1245FEBC32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7A334-C3EF-4BAB-B980-DA05219218C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90F12-F6ED-405E-BD80-C56C7BC16C6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6FCC9-8702-4C68-81FB-73C04A3A1D2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77B86-E43F-4FA0-8807-C31597074E4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F82D8-500E-4415-9272-053B0DFA53B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766-127E-4B67-B520-945C12E1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333-C076-4FF4-ADAC-01E41C81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A872-C87E-4EC0-AA06-E4C64369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428-F5A5-4414-A5F3-4AD6A637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5147-72D8-46F4-A21B-CFAD339F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BF2B-99CA-4F9F-9F9B-F5F3534D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413B-A8D2-46EC-92EF-C654848D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30AB-870C-4AED-91D7-ACCE636F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3CAB-0D56-4C89-AD05-469D1CFF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AC71-BCA9-4EB9-BCE9-13709190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7373-1395-472E-9A12-5A03A47C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407-4BF1-45CF-A956-3AF17617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217F-4FC9-406E-A59F-B2B85725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641C-D6C0-407A-8F7C-76F30720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64BC-BE93-4120-B75F-85E2A4A8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552F-B0ED-41E9-B4B1-37BB1227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F97C-6244-4CA8-96CE-BBA89098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B71-88EC-433C-9CD4-8B4FA89F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892-C263-4234-9EB6-42749C6E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70C-7A0E-44CA-9500-D6091A61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67C-02E6-438E-91A8-BCA7A3C9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620-9E1D-4087-B90B-745097D7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FCF-5A2F-4261-A9FA-768BA24D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B9E-3C20-4ED9-952A-EAF27F06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DB8161-5058-48AD-9432-0C9B97E69E36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0DDB08-9E76-4EB5-A9B1-985D035DEFB7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395280" y="981000"/>
            <a:ext cx="7489800" cy="2300400"/>
          </a:xfrm>
          <a:custGeom>
            <a:avLst/>
            <a:gdLst>
              <a:gd name="textAreaLeft" fmla="*/ 0 w 7489800"/>
              <a:gd name="textAreaRight" fmla="*/ 7490160 w 7489800"/>
              <a:gd name="textAreaTop" fmla="*/ 0 h 2300400"/>
              <a:gd name="textAreaBottom" fmla="*/ 2300760 h 2300400"/>
            </a:gdLst>
            <a:ahLst/>
            <a:rect l="textAreaLeft" t="textAreaTop" r="textAreaRight" b="textAreaBottom"/>
            <a:pathLst>
              <a:path w="7489080" h="2300288">
                <a:moveTo>
                  <a:pt x="0" y="0"/>
                </a:moveTo>
                <a:lnTo>
                  <a:pt x="17999" y="0"/>
                </a:lnTo>
                <a:lnTo>
                  <a:pt x="17999" y="6391"/>
                </a:lnTo>
                <a:lnTo>
                  <a:pt x="0" y="639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1116000" y="4005360"/>
            <a:ext cx="5832360" cy="1751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ttangolo 3"/>
          <p:cNvSpPr/>
          <p:nvPr/>
        </p:nvSpPr>
        <p:spPr>
          <a:xfrm>
            <a:off x="395280" y="404640"/>
            <a:ext cx="83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6600" spc="-1" strike="noStrike">
                <a:solidFill>
                  <a:srgbClr val="5cd3ff"/>
                </a:solidFill>
                <a:latin typeface="Franklin Gothic Book"/>
              </a:rPr>
              <a:t>Ricerca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6600" spc="-1" strike="noStrike">
                <a:solidFill>
                  <a:srgbClr val="5cd3ff"/>
                </a:solidFill>
                <a:latin typeface="Franklin Gothic Book"/>
              </a:rPr>
              <a:t>Campo di Concentramento di Auschwitz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CasellaDiTesto 4"/>
          <p:cNvSpPr/>
          <p:nvPr/>
        </p:nvSpPr>
        <p:spPr>
          <a:xfrm>
            <a:off x="3492360" y="5229360"/>
            <a:ext cx="4319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i  Alessandro Trombi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1"/>
          <p:cNvSpPr/>
          <p:nvPr/>
        </p:nvSpPr>
        <p:spPr>
          <a:xfrm>
            <a:off x="611280" y="4508640"/>
            <a:ext cx="7775640" cy="1655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Franklin Gothic Book"/>
              </a:rPr>
              <a:t>                           </a:t>
            </a:r>
            <a:r>
              <a:rPr b="1" lang="it-IT" sz="3600" spc="-1" strike="noStrike">
                <a:solidFill>
                  <a:srgbClr val="ffffff"/>
                </a:solidFill>
                <a:latin typeface="Franklin Gothic Book"/>
              </a:rPr>
              <a:t>Arbeit Match Fre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Franklin Gothic Book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ttangolo 2"/>
          <p:cNvSpPr/>
          <p:nvPr/>
        </p:nvSpPr>
        <p:spPr>
          <a:xfrm>
            <a:off x="611280" y="5445000"/>
            <a:ext cx="6985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       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Franklin Gothic Book"/>
              </a:rPr>
              <a:t>Il lavoro rende libe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Franklin Gothic Book"/>
              </a:rPr>
              <a:t>Questa, la frase che i deportati ad Auschwitz trovavano sul cancello del Campo di Concentram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Immagine 3" descr="Auswhitz.jpg"/>
          <p:cNvPicPr/>
          <p:nvPr/>
        </p:nvPicPr>
        <p:blipFill>
          <a:blip r:embed="rId2"/>
          <a:stretch/>
        </p:blipFill>
        <p:spPr>
          <a:xfrm>
            <a:off x="1835280" y="404640"/>
            <a:ext cx="5715000" cy="41277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1"/>
          <p:cNvSpPr/>
          <p:nvPr/>
        </p:nvSpPr>
        <p:spPr>
          <a:xfrm>
            <a:off x="457200" y="274680"/>
            <a:ext cx="7466040" cy="1143000"/>
          </a:xfrm>
          <a:custGeom>
            <a:avLst/>
            <a:gdLst>
              <a:gd name="textAreaLeft" fmla="*/ 0 w 7466040"/>
              <a:gd name="textAreaRight" fmla="*/ 7466400 w 7466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7466013" h="1143000">
                <a:moveTo>
                  <a:pt x="0" y="0"/>
                </a:moveTo>
                <a:lnTo>
                  <a:pt x="20742" y="0"/>
                </a:lnTo>
                <a:lnTo>
                  <a:pt x="20742" y="3174"/>
                </a:lnTo>
                <a:lnTo>
                  <a:pt x="0" y="317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949920" cy="283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891240" cy="273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1116000" y="4581360"/>
            <a:ext cx="6551640" cy="2132280"/>
          </a:xfrm>
          <a:prstGeom prst="rect">
            <a:avLst/>
          </a:prstGeom>
          <a:ln w="0">
            <a:noFill/>
          </a:ln>
        </p:spPr>
      </p:pic>
      <p:sp>
        <p:nvSpPr>
          <p:cNvPr id="101" name="Rettangolo 5"/>
          <p:cNvSpPr/>
          <p:nvPr/>
        </p:nvSpPr>
        <p:spPr>
          <a:xfrm>
            <a:off x="1547640" y="333360"/>
            <a:ext cx="56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6600" spc="-1" strike="noStrike">
                <a:solidFill>
                  <a:srgbClr val="ffffff"/>
                </a:solidFill>
                <a:latin typeface="Franklin Gothic Book"/>
              </a:rPr>
              <a:t>Il complesso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1"/>
          <p:cNvSpPr/>
          <p:nvPr/>
        </p:nvSpPr>
        <p:spPr>
          <a:xfrm>
            <a:off x="457200" y="274680"/>
            <a:ext cx="7466040" cy="1143000"/>
          </a:xfrm>
          <a:custGeom>
            <a:avLst/>
            <a:gdLst>
              <a:gd name="textAreaLeft" fmla="*/ 0 w 7466040"/>
              <a:gd name="textAreaRight" fmla="*/ 7466400 w 7466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7466013" h="1143000">
                <a:moveTo>
                  <a:pt x="0" y="0"/>
                </a:moveTo>
                <a:lnTo>
                  <a:pt x="20742" y="0"/>
                </a:lnTo>
                <a:lnTo>
                  <a:pt x="20742" y="3174"/>
                </a:lnTo>
                <a:lnTo>
                  <a:pt x="0" y="317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539640" y="1628640"/>
            <a:ext cx="6769080" cy="2941920"/>
          </a:xfrm>
          <a:custGeom>
            <a:avLst/>
            <a:gdLst>
              <a:gd name="textAreaLeft" fmla="*/ 0 w 6769080"/>
              <a:gd name="textAreaRight" fmla="*/ 6769440 w 6769080"/>
              <a:gd name="textAreaTop" fmla="*/ 0 h 2941920"/>
              <a:gd name="textAreaBottom" fmla="*/ 2942280 h 2941920"/>
            </a:gdLst>
            <a:ahLst/>
            <a:rect l="textAreaLeft" t="textAreaTop" r="textAreaRight" b="textAreaBottom"/>
            <a:pathLst>
              <a:path w="6768752" h="2941787">
                <a:moveTo>
                  <a:pt x="0" y="0"/>
                </a:moveTo>
                <a:lnTo>
                  <a:pt x="20742" y="0"/>
                </a:lnTo>
                <a:lnTo>
                  <a:pt x="20742" y="12571"/>
                </a:lnTo>
                <a:lnTo>
                  <a:pt x="0" y="1257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ttangolo 3"/>
          <p:cNvSpPr/>
          <p:nvPr/>
        </p:nvSpPr>
        <p:spPr>
          <a:xfrm>
            <a:off x="468360" y="907920"/>
            <a:ext cx="835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 circa 60 chilometri da Cracovia, nei pressi della città di Oswiecim, si trovano i campi di concentramento di Auschwitz. Costruiti durante l’occupazione nazista della Seconda Guerra Mondiale per quella che era “la soluzione finale della questione ebraica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a sua costruzione fu fortemente voluta da Hitl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l complesso comprende ben 3 campi principali e 45 sottocampi. E’ grande circa 40 km/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urono uccise ben 1.500.000 person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izialmente furono rinchiusi solo intellettuali e uomini della resistenza polacca ma dopo poco furono rinchiusi mendicanti, prostitute, omosessuali ed ebre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a capacità totale dei campi era di 100.000 pers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2"/>
          <a:stretch/>
        </p:blipFill>
        <p:spPr>
          <a:xfrm>
            <a:off x="5435640" y="549360"/>
            <a:ext cx="3024000" cy="2581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3"/>
          <a:stretch/>
        </p:blipFill>
        <p:spPr>
          <a:xfrm>
            <a:off x="611280" y="3284640"/>
            <a:ext cx="6335640" cy="3354120"/>
          </a:xfrm>
          <a:prstGeom prst="rect">
            <a:avLst/>
          </a:prstGeom>
          <a:ln w="0">
            <a:noFill/>
          </a:ln>
        </p:spPr>
      </p:pic>
      <p:sp>
        <p:nvSpPr>
          <p:cNvPr id="107" name="Rettangolo 4"/>
          <p:cNvSpPr/>
          <p:nvPr/>
        </p:nvSpPr>
        <p:spPr>
          <a:xfrm>
            <a:off x="468360" y="836640"/>
            <a:ext cx="468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6600" spc="-1" strike="noStrike">
                <a:solidFill>
                  <a:srgbClr val="ffffff"/>
                </a:solidFill>
                <a:latin typeface="Franklin Gothic Book"/>
              </a:rPr>
              <a:t>Le Person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1"/>
          <p:cNvSpPr/>
          <p:nvPr/>
        </p:nvSpPr>
        <p:spPr>
          <a:xfrm>
            <a:off x="457200" y="274680"/>
            <a:ext cx="7466040" cy="1143000"/>
          </a:xfrm>
          <a:custGeom>
            <a:avLst/>
            <a:gdLst>
              <a:gd name="textAreaLeft" fmla="*/ 0 w 7466040"/>
              <a:gd name="textAreaRight" fmla="*/ 7466400 w 7466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7466013" h="1143000">
                <a:moveTo>
                  <a:pt x="0" y="0"/>
                </a:moveTo>
                <a:lnTo>
                  <a:pt x="20742" y="0"/>
                </a:lnTo>
                <a:lnTo>
                  <a:pt x="20742" y="3174"/>
                </a:lnTo>
                <a:lnTo>
                  <a:pt x="0" y="317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2"/>
          <p:cNvSpPr/>
          <p:nvPr/>
        </p:nvSpPr>
        <p:spPr>
          <a:xfrm>
            <a:off x="457200" y="1600200"/>
            <a:ext cx="7466040" cy="4525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ttangolo 3"/>
          <p:cNvSpPr/>
          <p:nvPr/>
        </p:nvSpPr>
        <p:spPr>
          <a:xfrm>
            <a:off x="539640" y="1052640"/>
            <a:ext cx="741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l campo le persone venivano contrassegnate oltre che con un simbolo sulla camicia anche con un tatuagg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ul tatuaggio oltre a essere riportato il numero di matricola vi erano anche le caratteristiche dell’ uomo, ad esempio se era ebreo oppure se era un dissidente polit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e persone lavoravano dalle 10  alle 12 ore al giorno per sette giorni alla settiman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e persone “vivevano” in piccole baracche sovraffollate, su dei letti di tipo milit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Vi erano scarse razioni di cibo e non vi erano condizioni igienich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ltre a questo molte persone furono usate come cavie per alcuni esperimenti criminali. Chi non era in grado di lavorare veniva o fucilato o messo nelle camere a g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apitava non raramente che alcuni criminali tedeschi fossero scelti dalle SS come controllori sulle altre person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"/>
          <p:cNvSpPr/>
          <p:nvPr/>
        </p:nvSpPr>
        <p:spPr>
          <a:xfrm>
            <a:off x="457200" y="274680"/>
            <a:ext cx="7466040" cy="114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600" spc="-1" strike="noStrike">
                <a:solidFill>
                  <a:srgbClr val="ffffff"/>
                </a:solidFill>
                <a:latin typeface="Franklin Gothic Book"/>
              </a:rPr>
              <a:t>Liberazion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1403280" y="1700280"/>
            <a:ext cx="7466040" cy="4525920"/>
          </a:xfrm>
          <a:custGeom>
            <a:avLst/>
            <a:gdLst>
              <a:gd name="textAreaLeft" fmla="*/ 0 w 7466040"/>
              <a:gd name="textAreaRight" fmla="*/ 7466400 w 7466040"/>
              <a:gd name="textAreaTop" fmla="*/ 0 h 4525920"/>
              <a:gd name="textAreaBottom" fmla="*/ 4526280 h 4525920"/>
            </a:gdLst>
            <a:ahLst/>
            <a:rect l="textAreaLeft" t="textAreaTop" r="textAreaRight" b="textAreaBottom"/>
            <a:pathLst>
              <a:path w="7466013" h="4525963">
                <a:moveTo>
                  <a:pt x="0" y="0"/>
                </a:moveTo>
                <a:lnTo>
                  <a:pt x="20742" y="0"/>
                </a:lnTo>
                <a:lnTo>
                  <a:pt x="20742" y="12571"/>
                </a:lnTo>
                <a:lnTo>
                  <a:pt x="0" y="1257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1908000" y="1125360"/>
            <a:ext cx="4967640" cy="3098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4" name="Rettangolo 4"/>
          <p:cNvSpPr/>
          <p:nvPr/>
        </p:nvSpPr>
        <p:spPr>
          <a:xfrm>
            <a:off x="324000" y="4581360"/>
            <a:ext cx="7200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l Campo fu liberato il 27 Gennaio 1945 dalle truppe Sovietiche, precisamente dall’ Armata Rossa di Stali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&gt;&lt;value"/>
              </a:rPr>
              <a:t>Nel 1979 è divenuto Patrimonio Mondiale dell’ Unes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&gt;&lt;value"/>
              </a:rPr>
              <a:t>Attualmente il complesso di Auschwitz è visitabil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&gt;&lt;value"/>
              </a:rPr>
              <a:t>  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&gt;&lt;value"/>
              </a:rPr>
              <a:t>PER NON DIMENTI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rombini Alessandro</dc:creator>
  <dc:description/>
  <dc:language>en-US</dc:language>
  <cp:lastModifiedBy>utente</cp:lastModifiedBy>
  <dcterms:modified xsi:type="dcterms:W3CDTF">2013-01-25T09:03:32Z</dcterms:modified>
  <cp:revision>12</cp:revision>
  <dc:subject/>
  <dc:title>Diapositiva 1</dc:title>
</cp:coreProperties>
</file>