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11.jpeg" ContentType="image/jpeg"/>
  <Override PartName="/ppt/media/image12.jpeg" ContentType="image/jpeg"/>
  <Override PartName="/ppt/media/image1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FDB6F-2D1B-4E33-9BCD-4EF829419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50B0-7E8C-4256-82A9-877B10F7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154F0-4B4A-4322-9EA0-3B64E3B16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485FA-53C6-430D-B50E-4F770E34E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0DE80FF-097E-4BBE-95EF-28C7CACDB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AAD9A4-DC9A-4A1B-B6B2-CA3960C39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7B0F9FD-C474-4475-AA87-C0344CD3E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21755D-D5F8-46C0-B6B0-A5B0CD06F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73F922-58D7-41CC-93C0-515AD7367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E79332-091D-4EAE-B1A6-7D01E7973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B9861B-4C10-4935-A571-E933009B1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F1BE-C08F-40AB-9C28-07CEDB0BD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D37C2E-FDE1-4EC3-84F8-7231A27A6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900128-6083-4061-863F-9BB0C544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310B01-E344-4281-8440-0999C0395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7D2014-F012-475D-8E91-8162BCA85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65499C-457D-400F-AD11-6A64B32BDB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EE979-0E43-45E3-9253-D12013870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CAA3CF-3649-47F8-A925-D721C99647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813E3-46B6-4E30-B5C0-4BCBF3E77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F43AB-DEB3-409B-A13A-E32328BBE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F3FD8A-56D2-4A99-9748-64CD4513E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5C70A-0653-4DEE-95FF-A4485CB0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DAEF5-834B-4869-B108-942D457D0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C2BA1-86CE-45E0-82B4-1D905FF51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31926-AAE6-41CE-A668-F0BEE1360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8EF6CB-F03D-4A4E-ACF9-D5CAB1078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1FB61-983A-478F-8460-6C1426102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6277BD-294B-415D-973B-540C7BAAD2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A84B2F-84B3-47B8-AF56-DDBABA1DCC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F1AB311-6609-45D1-B360-E9A870498B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80B6127-9C1B-4F51-8FAD-4878938FC78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B8ED20D-EFEF-4E29-B678-C98CFD2BAC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08AE-83C2-47E1-856C-F54283E98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32AF172-35C6-4F1B-8464-F07F585D91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CF071EA-AE1E-49AB-9929-E84DC2CEA8F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B1BB79C-E1D2-4887-81C7-0AA4009D4B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A99A959-8F25-437C-BA65-7DD034CE28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BF37520-5315-41CC-8D08-C769F8EA31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021528E-6338-4602-AC37-F23269A05A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3B28525-CFA7-478C-9BFC-B2EE11B21C7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CF61179-B81A-4A02-8355-1D2E6D739B8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8A6A64B-1185-46BE-BAF9-7C944C78DEF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841216-1DB6-49F8-8AD6-DBF7F1BA40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C3F0-74A1-4FAC-828E-861D25B4B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83BB078-6F7F-42C2-8FB5-B5B615E49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3E6A25-B271-47C9-AE8A-BE0A560CA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7BD844-8B19-4B7C-97F3-85497631F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3C9958-82A2-4DFD-B72B-518276AF5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4D07319-FE18-47EB-B1A3-B266EA76F6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F7060A-A456-4918-A654-9D6E27162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BD6861-1677-4A9F-AA35-8BB6AC015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D02B06-EEA1-4D1D-A8C1-ACF302627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A74F02-01F8-467D-9206-E6DD05749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CE2121-FA6D-4A03-95F9-6962ECCCC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37C2-6000-475E-B8B8-05D75E2EE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F8A553F-9A50-4D0A-A262-12518F831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E07EEC1-E57F-4620-BA51-48D01FAA70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5A1D020-95DD-4998-B82A-D1EF5169F1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C294E34-010C-4AD8-9DAD-FF85D1BD28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38C32FF-9ECC-45FC-9CAD-F19EC13EA5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CEC70-F21B-4B33-B8C0-D213B8950B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7777231-59FA-4E42-B917-246A1715E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71DF86-A34C-46D7-8F7C-A17FF8E36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0301FB-56F0-4BD7-A904-D2BF31FED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810CCB-BEA1-47E9-AA36-3C7D0A4A9B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3C7D-D93B-4DE2-B214-BDA6F1D3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79230A2-5645-4E13-B9B3-4914FB3CD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61539C4-2179-4748-8E82-F9264AB3EA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26E2772-757F-4134-807E-DF88F0CC28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7B892-42A8-4413-B7C7-75912493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D301-3884-44FC-A078-939FD8643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9F2B-4D40-415F-8BCF-FAFAB9944AF1}"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Connettore 1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e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B223-7054-42F6-B8B0-B8BF9711FD4B}"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5B59-B206-4ED0-A381-C814B69FAA6B}"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Connettore 1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AC89-D7CE-48EE-942E-C7F48D3A6C97}"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6E43-3463-4E03-95D9-92B33CB97DB7}"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Constantia"/>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1CAD-8492-4E4A-B62D-B73C47D22B21}" type="slidenum">
              <a:rPr b="0" lang="en-US" sz="1600" spc="-1" strike="noStrike">
                <a:solidFill>
                  <a:srgbClr val="fefac9"/>
                </a:solidFill>
                <a:latin typeface="Constantia"/>
              </a:rPr>
              <a:t>&lt;number&gt;</a:t>
            </a:fld>
            <a:endParaRPr b="0" lang="en-US" sz="1600" spc="-1" strike="noStrike">
              <a:solidFill>
                <a:srgbClr val="000000"/>
              </a:solidFill>
              <a:latin typeface="Constantia"/>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I%20Campi%20di%20Concentramento.ppt#Slide 3" TargetMode="External"/><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ffffff"/>
                </a:solidFill>
                <a:latin typeface="Constantia"/>
              </a:rPr>
              <a:t>CRISTINA AVANZINI</a:t>
            </a:r>
            <a:endParaRPr b="0" lang="en-US" sz="6000" spc="-1" strike="noStrike">
              <a:solidFill>
                <a:srgbClr val="ffffff"/>
              </a:solidFill>
              <a:latin typeface="Constantia"/>
            </a:endParaRPr>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68000" y="3716280"/>
            <a:ext cx="806292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d7e0e"/>
                </a:solidFill>
                <a:latin typeface="Constantia"/>
              </a:rPr>
              <a:t>Il lavoro rende liberi</a:t>
            </a:r>
            <a:endParaRPr b="0" lang="en-US" sz="5400" spc="-1" strike="noStrike">
              <a:solidFill>
                <a:srgbClr val="ffffff"/>
              </a:solidFill>
              <a:latin typeface="Constantia"/>
            </a:endParaRPr>
          </a:p>
        </p:txBody>
      </p:sp>
      <p:pic>
        <p:nvPicPr>
          <p:cNvPr id="254" name="Rettangolo 3" descr=""/>
          <p:cNvPicPr/>
          <p:nvPr/>
        </p:nvPicPr>
        <p:blipFill>
          <a:blip r:embed="rId2"/>
          <a:stretch/>
        </p:blipFill>
        <p:spPr>
          <a:xfrm>
            <a:off x="-23760" y="201600"/>
            <a:ext cx="7296120" cy="221292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txBox="1"/>
          <p:nvPr/>
        </p:nvSpPr>
        <p:spPr>
          <a:xfrm>
            <a:off x="457200" y="1523880"/>
            <a:ext cx="8229600" cy="457200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Berlin Sans FB"/>
              </a:rPr>
              <a:t>Il </a:t>
            </a:r>
            <a:r>
              <a:rPr b="1" lang="it-IT" sz="2200" spc="-1" strike="noStrike">
                <a:solidFill>
                  <a:srgbClr val="ffffff"/>
                </a:solidFill>
                <a:latin typeface="Berlin Sans FB"/>
              </a:rPr>
              <a:t>campo di concentramento di Auschwitz</a:t>
            </a:r>
            <a:r>
              <a:rPr b="0" lang="it-IT" sz="2200" spc="-1" strike="noStrike">
                <a:solidFill>
                  <a:srgbClr val="ffffff"/>
                </a:solidFill>
                <a:latin typeface="Berlin Sans FB"/>
              </a:rPr>
              <a:t> fu uno dei tre campi principali che formavano il complesso concentrazionario situato nelle vicinanze di Auschwitz , in Polonia. Facevano parte del complesso anche il campo di sterminio di Birkenau, situato a Birkena, il campo di lavoro di Monowitz, situato a Monowitz, ed i restanti 45 sottocampi costruiti durante l'occupazione tedesca della Polonia.</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Berlin Sans FB"/>
              </a:rPr>
              <a:t>Il complesso dei campi di Auschwitz svolse un ruolo fondamentale nei progetti di "soluzione finale del problema ebraico" - eufemismo con il quale i nazisti indicarono lo sterminio degli ebrei (nel campo, tuttavia, trovarono la morte anche molte altre categorie di internati) - divenendo rapidamente il più grande ed efficiente centro di sterminio nazista. Auschwitz, nell'immaginario collettivo, è diventato il simbolo universale del lager nazista.</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Berlin Sans FB"/>
              </a:rPr>
              <a:t>Dal 1979, ciò che resta di quel luogo è patrimonio dell'umanità dell'UNESCO.</a:t>
            </a:r>
            <a:endParaRPr b="0" lang="en-US" sz="2200" spc="-1" strike="noStrike">
              <a:solidFill>
                <a:srgbClr val="ffffff"/>
              </a:solidFill>
              <a:latin typeface="Constant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pic>
        <p:nvPicPr>
          <p:cNvPr id="256" name="Titolo 1" descr=""/>
          <p:cNvPicPr/>
          <p:nvPr/>
        </p:nvPicPr>
        <p:blipFill>
          <a:blip r:embed="rId2"/>
          <a:stretch/>
        </p:blipFill>
        <p:spPr>
          <a:xfrm>
            <a:off x="255600" y="146160"/>
            <a:ext cx="8437680" cy="12319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Titolo 1" descr=""/>
          <p:cNvPicPr/>
          <p:nvPr/>
        </p:nvPicPr>
        <p:blipFill>
          <a:blip r:embed="rId2"/>
          <a:stretch/>
        </p:blipFill>
        <p:spPr>
          <a:xfrm>
            <a:off x="219240" y="146160"/>
            <a:ext cx="8613720" cy="1231920"/>
          </a:xfrm>
          <a:prstGeom prst="rect">
            <a:avLst/>
          </a:prstGeom>
          <a:ln w="0">
            <a:noFill/>
          </a:ln>
        </p:spPr>
      </p:pic>
      <p:sp>
        <p:nvSpPr>
          <p:cNvPr id="258" name=""/>
          <p:cNvSpPr txBox="1"/>
          <p:nvPr/>
        </p:nvSpPr>
        <p:spPr>
          <a:xfrm>
            <a:off x="457200" y="1523880"/>
            <a:ext cx="4059360" cy="457200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Berlin Sans FB"/>
              </a:rPr>
              <a:t>Il complesso dei campi di Auschwitz svolse un ruolo fondamentale nei progetti di "soluzione finale del problema ebraico" - eufemismo con il quale i nazisti indicarono lo sterminio degli ebrei (nel campo, tuttavia, trovarono la morte anche molte altre categorie di internati) - divenendo rapidamente il più grande ed efficiente centro di sterminio nazista. Auschwitz, nell'immaginario collettivo, è diventato il simbolo universale del lager nazista.</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Berlin Sans FB"/>
              </a:rPr>
              <a:t>Dal 1979, ciò che resta di quel luogo è patrimonio dell'umanità dell'UNESCO.</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59" name="Segnaposto contenuto 4" descr="1 Auschwitz ebrei salutano soldati[1].jpg"/>
          <p:cNvPicPr/>
          <p:nvPr/>
        </p:nvPicPr>
        <p:blipFill>
          <a:blip r:embed="rId3"/>
          <a:stretch/>
        </p:blipFill>
        <p:spPr>
          <a:xfrm>
            <a:off x="4876920" y="2200320"/>
            <a:ext cx="4091040" cy="295740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179280" y="1600200"/>
            <a:ext cx="8507520" cy="506880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Berlin Sans FB"/>
                <a:ea typeface="Arial"/>
              </a:rPr>
              <a:t>I convogli di deportati (circa 2.000 - 2.500 prigionieri per treno), spesso chiamati </a:t>
            </a:r>
            <a:r>
              <a:rPr b="0" i="1" lang="it-IT" sz="1600" spc="-1" strike="noStrike">
                <a:solidFill>
                  <a:srgbClr val="ffffff"/>
                </a:solidFill>
                <a:latin typeface="Berlin Sans FB"/>
                <a:ea typeface="Arial"/>
              </a:rPr>
              <a:t>trasporti</a:t>
            </a:r>
            <a:r>
              <a:rPr b="0" lang="it-IT" sz="1600" spc="-1" strike="noStrike">
                <a:solidFill>
                  <a:srgbClr val="ffffff"/>
                </a:solidFill>
                <a:latin typeface="Berlin Sans FB"/>
                <a:ea typeface="Arial"/>
              </a:rPr>
              <a:t>, composti da vagoni merci contenenti dalle 80 alle 120 persone costrette a inimmaginabili condizioni di vita e igieniche, che spesso viaggiavano per 10-15 giorni per raggiungere la loro ultima meta, erano organizzati da uno speciale dipartimento dell‘RSHA (</a:t>
            </a:r>
            <a:r>
              <a:rPr b="0" i="1" lang="it-IT" sz="1600" spc="-1" strike="noStrike">
                <a:solidFill>
                  <a:srgbClr val="ffffff"/>
                </a:solidFill>
                <a:latin typeface="Berlin Sans FB"/>
                <a:ea typeface="Arial"/>
              </a:rPr>
              <a:t>ufficio centrale per la sicurezza del Reich</a:t>
            </a:r>
            <a:r>
              <a:rPr b="0" lang="it-IT" sz="1600" spc="-1" strike="noStrike">
                <a:solidFill>
                  <a:srgbClr val="ffffff"/>
                </a:solidFill>
                <a:latin typeface="Berlin Sans FB"/>
                <a:ea typeface="Arial"/>
              </a:rPr>
              <a:t>): </a:t>
            </a:r>
            <a:r>
              <a:rPr b="0" lang="it-IT" sz="1600" spc="-1" strike="noStrike">
                <a:solidFill>
                  <a:srgbClr val="ffffff"/>
                </a:solidFill>
                <a:latin typeface="Berlin Sans FB"/>
                <a:ea typeface="Arial"/>
              </a:rPr>
              <a:t>l'</a:t>
            </a:r>
            <a:r>
              <a:rPr b="0" i="1" lang="it-IT" sz="1600" spc="-1" strike="noStrike">
                <a:solidFill>
                  <a:srgbClr val="ffffff"/>
                </a:solidFill>
                <a:latin typeface="Berlin Sans FB"/>
                <a:ea typeface="Arial"/>
              </a:rPr>
              <a:t>Amt IV B 4</a:t>
            </a:r>
            <a:r>
              <a:rPr b="0" lang="it-IT" sz="1600" spc="-1" strike="noStrike">
                <a:solidFill>
                  <a:srgbClr val="ffffff"/>
                </a:solidFill>
                <a:latin typeface="Berlin Sans FB"/>
                <a:ea typeface="Arial"/>
              </a:rPr>
              <a:t> </a:t>
            </a:r>
            <a:r>
              <a:rPr b="0" lang="it-IT" sz="1600" spc="-1" strike="noStrike">
                <a:solidFill>
                  <a:srgbClr val="ffffff"/>
                </a:solidFill>
                <a:latin typeface="Berlin Sans FB"/>
                <a:ea typeface="Arial"/>
              </a:rPr>
              <a:t>comandato da Adolf Eichmann. Eichmann e i suoi collaboratori in qualità di esperti di "problemi ebraici" gestirono l'intera parte logistica dello sterminio suddividendo i convogli sui diversi centri di sterminio in base alla capacità "ricettiva" dei centri stessi: il grande complesso di Auschwitz ricoprì sempre un ruolo fondamentale nel processo di "soluzione finale". Le azioni di sterminio (chiamate </a:t>
            </a:r>
            <a:r>
              <a:rPr b="0" i="1" lang="it-IT" sz="1600" spc="-1" strike="noStrike">
                <a:solidFill>
                  <a:srgbClr val="ffffff"/>
                </a:solidFill>
                <a:latin typeface="Berlin Sans FB"/>
                <a:ea typeface="Arial"/>
              </a:rPr>
              <a:t>Aktion</a:t>
            </a:r>
            <a:r>
              <a:rPr b="0" lang="it-IT" sz="1600" spc="-1" strike="noStrike">
                <a:solidFill>
                  <a:srgbClr val="ffffff"/>
                </a:solidFill>
                <a:latin typeface="Berlin Sans FB"/>
                <a:ea typeface="Arial"/>
              </a:rPr>
              <a:t>), della durata di 4-6 settimane, si susseguirono per tutta la durata del conflitto coinvolgendo successivamente diversi gruppi provenienti dalle nazioni sotto il controllo tedesco.</a:t>
            </a:r>
            <a:endParaRPr b="0" lang="en-US" sz="1600" spc="-1" strike="noStrike">
              <a:solidFill>
                <a:srgbClr val="ffffff"/>
              </a:solidFill>
              <a:latin typeface="Constantia"/>
            </a:endParaRPr>
          </a:p>
        </p:txBody>
      </p:sp>
      <p:pic>
        <p:nvPicPr>
          <p:cNvPr id="261" name="Titolo 1" descr=""/>
          <p:cNvPicPr/>
          <p:nvPr/>
        </p:nvPicPr>
        <p:blipFill>
          <a:blip r:embed="rId2"/>
          <a:stretch/>
        </p:blipFill>
        <p:spPr>
          <a:xfrm>
            <a:off x="219240" y="146160"/>
            <a:ext cx="8474040" cy="1231920"/>
          </a:xfrm>
          <a:prstGeom prst="rect">
            <a:avLst/>
          </a:prstGeom>
          <a:ln w="0">
            <a:noFill/>
          </a:ln>
        </p:spPr>
      </p:pic>
      <p:pic>
        <p:nvPicPr>
          <p:cNvPr id="262" name="Immagine 3" descr="100_4768[1].JPG"/>
          <p:cNvPicPr/>
          <p:nvPr/>
        </p:nvPicPr>
        <p:blipFill>
          <a:blip r:embed="rId3"/>
          <a:stretch/>
        </p:blipFill>
        <p:spPr>
          <a:xfrm>
            <a:off x="900000" y="4653000"/>
            <a:ext cx="2951280" cy="1968480"/>
          </a:xfrm>
          <a:prstGeom prst="rect">
            <a:avLst/>
          </a:prstGeom>
          <a:ln w="0">
            <a:noFill/>
          </a:ln>
        </p:spPr>
      </p:pic>
    </p:spTree>
  </p:cSld>
  <p:transition>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Berlin Sans FB"/>
                <a:ea typeface="Arial"/>
              </a:rPr>
              <a:t>Dal 14 giugno 1940 (data del primo arrivo di deportati al campo) al 1942 (data di attivazione della </a:t>
            </a:r>
            <a:r>
              <a:rPr b="0" i="1" lang="it-IT" sz="1800" spc="-1" strike="noStrike">
                <a:solidFill>
                  <a:srgbClr val="ffffff"/>
                </a:solidFill>
                <a:latin typeface="Berlin Sans FB"/>
                <a:ea typeface="Arial"/>
              </a:rPr>
              <a:t>Judenrampe</a:t>
            </a:r>
            <a:r>
              <a:rPr b="0" lang="it-IT" sz="1800" spc="-1" strike="noStrike">
                <a:solidFill>
                  <a:srgbClr val="ffffff"/>
                </a:solidFill>
                <a:latin typeface="Berlin Sans FB"/>
                <a:ea typeface="Arial"/>
              </a:rPr>
              <a:t>), i treni sostavano sui binari nel pressi del campo principale di Auschwitz - i grandi impianti di sterminio di Birkenau non erano ancora stati costruiti. Anche in seguito, soprattutto nel caso di convogli di rastrellati polacchi (non ebrei) da internare nel campo principale, questa soluzione continuò a essere utilizzata. Si ebbero anche casi di treni "scaricati" nella stazione della cittadina di Oświęcim a causa dell'eccessivo numero di convogli in arrivo</a:t>
            </a:r>
            <a:endParaRPr b="0" lang="en-US" sz="18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64" name="Titolo 1" descr=""/>
          <p:cNvPicPr/>
          <p:nvPr/>
        </p:nvPicPr>
        <p:blipFill>
          <a:blip r:embed="rId2"/>
          <a:stretch/>
        </p:blipFill>
        <p:spPr>
          <a:xfrm>
            <a:off x="219240" y="146160"/>
            <a:ext cx="8474040" cy="1231920"/>
          </a:xfrm>
          <a:prstGeom prst="rect">
            <a:avLst/>
          </a:prstGeom>
          <a:ln w="0">
            <a:noFill/>
          </a:ln>
        </p:spPr>
      </p:pic>
      <p:pic>
        <p:nvPicPr>
          <p:cNvPr id="265" name="Immagine 3" descr="auschwitz-arrivo-dei-treni[1].jpg"/>
          <p:cNvPicPr/>
          <p:nvPr/>
        </p:nvPicPr>
        <p:blipFill>
          <a:blip r:embed="rId3"/>
          <a:stretch/>
        </p:blipFill>
        <p:spPr>
          <a:xfrm>
            <a:off x="4565520" y="3713040"/>
            <a:ext cx="4042080" cy="287028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txBox="1"/>
          <p:nvPr/>
        </p:nvSpPr>
        <p:spPr>
          <a:xfrm>
            <a:off x="468360" y="1557360"/>
            <a:ext cx="822960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Berlin Sans FB"/>
              </a:rPr>
              <a:t>      </a:t>
            </a:r>
            <a:r>
              <a:rPr b="0" lang="it-IT" sz="1600" spc="-1" strike="noStrike">
                <a:solidFill>
                  <a:srgbClr val="ffffff"/>
                </a:solidFill>
                <a:latin typeface="Berlin Sans FB"/>
              </a:rPr>
              <a:t>Per i nazisti valeva il principio che i prigionieri erano i nemici dello stato,pertanto ogni Ss poteva,senza essere giudicato colpevole,uccidere o dare ordini ai suoi sottoposti e tra questi molti kapò si macchiarono di nefasti omicidi . Si poteva esesre puniti per qualsiasi ragione,anche banale,come non essere ben allineati all’appello,non aver svolto un lavoro secondo l’umore della Ss ,non aver fatto bene il letto e molte altre cose . le punizioni,generalmente,venivano eseguite sul luogo di infrazione,mediante percosse ed umiliazioni che spesso portavano alla morte . Un altra forma di punizione consisteva nell’essere inseriti nella “compagnia penale</a:t>
            </a:r>
            <a:r>
              <a:rPr b="0" lang="it-IT" sz="1600" spc="-1" strike="noStrike">
                <a:solidFill>
                  <a:srgbClr val="ffffff"/>
                </a:solidFill>
                <a:latin typeface="Constantia"/>
              </a:rPr>
              <a:t>”.</a:t>
            </a:r>
            <a:endParaRPr b="0" lang="en-US" sz="1600" spc="-1" strike="noStrike">
              <a:solidFill>
                <a:srgbClr val="ffffff"/>
              </a:solidFill>
              <a:latin typeface="Constantia"/>
            </a:endParaRPr>
          </a:p>
        </p:txBody>
      </p:sp>
      <p:pic>
        <p:nvPicPr>
          <p:cNvPr id="267" name="Titolo 1" descr=""/>
          <p:cNvPicPr/>
          <p:nvPr/>
        </p:nvPicPr>
        <p:blipFill>
          <a:blip r:embed="rId2"/>
          <a:stretch/>
        </p:blipFill>
        <p:spPr>
          <a:xfrm>
            <a:off x="219240" y="146160"/>
            <a:ext cx="8474040" cy="1231920"/>
          </a:xfrm>
          <a:prstGeom prst="rect">
            <a:avLst/>
          </a:prstGeom>
          <a:ln w="0">
            <a:noFill/>
          </a:ln>
        </p:spPr>
      </p:pic>
      <p:pic>
        <p:nvPicPr>
          <p:cNvPr id="268" name="Immagine 3" descr="muro-della-morte[1].jpg"/>
          <p:cNvPicPr/>
          <p:nvPr/>
        </p:nvPicPr>
        <p:blipFill>
          <a:blip r:embed="rId3"/>
          <a:stretch/>
        </p:blipFill>
        <p:spPr>
          <a:xfrm>
            <a:off x="900000" y="3716280"/>
            <a:ext cx="4103640" cy="2710080"/>
          </a:xfrm>
          <a:prstGeom prst="rect">
            <a:avLst/>
          </a:prstGeom>
          <a:ln w="0">
            <a:noFill/>
          </a:ln>
        </p:spPr>
      </p:pic>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Segnaposto contenuto 3" descr="300px-Bundesarchiv_Bild_146-2007-0077,_IG-Farbenwerke_Auschwitz[1].jpg"/>
          <p:cNvPicPr/>
          <p:nvPr/>
        </p:nvPicPr>
        <p:blipFill>
          <a:blip r:embed="rId2"/>
          <a:stretch/>
        </p:blipFill>
        <p:spPr>
          <a:xfrm>
            <a:off x="755640" y="1382760"/>
            <a:ext cx="3370320" cy="2190600"/>
          </a:xfrm>
          <a:prstGeom prst="rect">
            <a:avLst/>
          </a:prstGeom>
          <a:ln w="0">
            <a:noFill/>
          </a:ln>
        </p:spPr>
      </p:pic>
      <p:pic>
        <p:nvPicPr>
          <p:cNvPr id="270" name="Titolo 1" descr=""/>
          <p:cNvPicPr/>
          <p:nvPr/>
        </p:nvPicPr>
        <p:blipFill>
          <a:blip r:embed="rId3"/>
          <a:stretch/>
        </p:blipFill>
        <p:spPr>
          <a:xfrm>
            <a:off x="219240" y="146160"/>
            <a:ext cx="8474040" cy="123192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735840" y="1608480"/>
            <a:ext cx="7610400" cy="4575240"/>
          </a:xfrm>
          <a:prstGeom prst="rect">
            <a:avLst/>
          </a:prstGeom>
          <a:noFill/>
          <a:ln w="0">
            <a:noFill/>
          </a:ln>
        </p:spPr>
        <p:txBody>
          <a:bodyPr lIns="90000" rIns="90000" tIns="46800" bIns="46800" anchor="t">
            <a:normAutofit fontScale="86000"/>
          </a:bodyPr>
          <a:p>
            <a:pPr marL="234360" indent="-23436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rlin Sans FB"/>
              </a:rPr>
              <a:t>Verso la metà di gennaio del 1945, all’avvicinarsi delle truppe sovietiche al complesso di Auschwitz, le SS cominciarono ad evacuare sia i campi principali che quelli secondari. Unità delle SS obbligarono circa 60.000 prigionieri a lasciare Auschwitz e a marciare verso ovest. Migliaia di questi prigionieri, però, furono uccisi quando ancora erano all’interno dei campi, nei giorni precedenti queste marce forzate (poi divenute famose anche conosciute come “marce della morte”). In tutto, decine di migliaia di detenuti, per la maggior parte Ebrei, vennero obbligati a unirsi alle marce, le quali procedevano in due diverse direzioni: la prima prevedeva un percorso verso nordovest di circa 55 chilometri, fino a Gliwice; a questa marcia si univano, lungo il cammino, anche i prigionieri dei sottocampi dell'Alta Slesia Orientale, come Bismarckhuette, Althammer e Hindenburg. La seconda via invece si dirigeva ad ovest per 63 chilometri, verso Wodzislaw, nella parte occidentale dell’Alta Slesia; anche in questo caso, lungo il percorso, venivano raccolti altri prigionieri, provenienti dai campi secondari a sud di Auschwitz, come Jawischowitz, Tschechowitz e Golleschau. Durante le marce della morte, le SS sparavano a chiunque rallentasse o non fosse più in grado di continuare a camminare. I prigionieri, inoltre, erano inermi di fronte al freddo, la fame e gli altri disagi che li affliggevano lungo il cammino. Si calcola che, solo sulla via di Gliwice, morirono almeno 3.000 prigionieri; in tutto, si pensa che circa 15.000 prigionieri siano morti durante queste evacuazioni forzate da Auschwitz e dai suoi sottocampi. </a:t>
            </a:r>
            <a:endParaRPr b="0" lang="en-US" sz="1200" spc="-1" strike="noStrike">
              <a:solidFill>
                <a:srgbClr val="ffffff"/>
              </a:solidFill>
              <a:latin typeface="Constantia"/>
            </a:endParaRPr>
          </a:p>
          <a:p>
            <a:pPr marL="234360" indent="-23436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rlin Sans FB"/>
              </a:rPr>
              <a:t>Verso la fine di gennaio del 1945, le SS e la polizia obbligarono 4.000 prigionieri ad abbandonare a piedi Blechhammer, un campo satellite del complesso di Auschwitz-Monowitz. Le SS assassinarono 800 prigionieri durante quella marcia verso il campo di concentramento di Gross-Rosen. Gli uomini delle SS uccisero anche almeno 200 prigionieri che erano rimasti nel campo o perché malati o perché erano riusciti a nascondersi. Così, con un breve ritardo sulle previsioni, le SS trasportarono i circa 3000 prigionieri di Blechhammer da Gross-Rosen al campo di concentramento di Buchenwald, in Germania. </a:t>
            </a:r>
            <a:endParaRPr b="0" lang="en-US" sz="1200" spc="-1" strike="noStrike">
              <a:solidFill>
                <a:srgbClr val="ffffff"/>
              </a:solidFill>
              <a:latin typeface="Constantia"/>
            </a:endParaRPr>
          </a:p>
          <a:p>
            <a:pPr marL="234360" indent="-23436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rlin Sans FB"/>
              </a:rPr>
              <a:t>Il 27 gennaio 1945, l’esercito sovietico entrò ad Auschwitz, a Birkenau e a Monowitz liberando cira 7.000 prigionieri, la maggior parte dei quali era gravemente ammalata e ridotta in fin di vita. Si stima che le SS e le forze di polizia abbiano deportato almeno un milione e trecentomila persone nel complesso di Auschwitz, tra il 1940 e il 1945. Di questi, i responsabili dei campi ne uccisero un milione e centomila.  </a:t>
            </a:r>
            <a:r>
              <a:rPr b="0" lang="it-IT" sz="1200" spc="-1" strike="noStrike" u="sng">
                <a:solidFill>
                  <a:srgbClr val="8e58b6"/>
                </a:solidFill>
                <a:uFillTx/>
                <a:latin typeface="Berlin Sans FB"/>
                <a:hlinkClick r:id="rId2"/>
              </a:rPr>
              <a:t>                                                                                                                                                                                          </a:t>
            </a:r>
            <a:endParaRPr b="0" lang="en-US" sz="1200" spc="-1" strike="noStrike">
              <a:solidFill>
                <a:srgbClr val="ffffff"/>
              </a:solidFill>
              <a:latin typeface="Constantia"/>
            </a:endParaRPr>
          </a:p>
          <a:p>
            <a:pPr marL="234360" indent="-234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rlin Sans FB"/>
              </a:rPr>
              <a:t>                                                                                                                                          </a:t>
            </a:r>
            <a:endParaRPr b="0" lang="en-US" sz="1200" spc="-1" strike="noStrike">
              <a:solidFill>
                <a:srgbClr val="ffffff"/>
              </a:solidFill>
              <a:latin typeface="Constantia"/>
            </a:endParaRPr>
          </a:p>
        </p:txBody>
      </p:sp>
      <p:pic>
        <p:nvPicPr>
          <p:cNvPr id="272" name="Titolo 1" descr=""/>
          <p:cNvPicPr/>
          <p:nvPr/>
        </p:nvPicPr>
        <p:blipFill>
          <a:blip r:embed="rId3"/>
          <a:stretch/>
        </p:blipFill>
        <p:spPr>
          <a:xfrm>
            <a:off x="250920" y="0"/>
            <a:ext cx="8474040" cy="12319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9T09:38:19Z</dcterms:created>
  <dc:creator>utente</dc:creator>
  <dc:description/>
  <dc:language>en-US</dc:language>
  <cp:lastModifiedBy>utente</cp:lastModifiedBy>
  <dcterms:modified xsi:type="dcterms:W3CDTF">2013-01-25T08:32:24Z</dcterms:modified>
  <cp:revision>13</cp:revision>
  <dc:subject/>
  <dc:title>Diapositiva 1</dc:title>
</cp:coreProperties>
</file>