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476-10EB-4EDC-B815-11980453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05FC-D604-48AE-9AF4-2525EA98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35F-3786-45C7-B890-1210F934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9DD-C5C0-4B8C-876C-631A5C4B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FA3-80DC-42B1-9D36-871A3036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7C5-42C2-48D6-B86E-036C38F9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D04-6BED-4D3A-A214-D2297D81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E17-A61B-40BB-8398-BABEC388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FF1-5BDC-4D21-9759-B30E6C71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E74-22EC-48C8-B48D-451EA530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B95-5621-43B5-A542-0A559F37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2A51-3A8A-4E62-BE10-7056441D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FB9C-FF33-451E-8E3C-78E094049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lli Cl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437920"/>
            <a:ext cx="8686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campo di concentramento d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Auschwit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liberazione da Auschwi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erso la metà di gennaio del 1945, all’avvicinarsi delle truppe sovietiche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lesso di Auschwitz, le SS cominciarono ad evacuare sia i campi princip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quelli secondari. Unità delle SS obbligarono circa 60.000 prigionieri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sciare Auschwitz e a marciare verso ovest. Durante le marce della morte, 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S sparavano a chiunque rallentasse o non fosse più in grado di continuar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mminare. I prigionieri, inoltre, erano inermi di fronte al freddo, la fame e g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ri disagi che li affliggevano lungo il cammino. Si calcola che, solo sulla via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wice, morirono almeno 3.000 prigionieri; in tutto, si pensa che circa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gionieri siano morti durante queste evacuazioni forzate da Auschwitz e d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oi sottocampi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27 gennaio 1945, l’esercito sovietico entrò ad Auschwitz, a Birkenau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nowitz liberando cira 7.000 prigionieri, la maggior parte dei quali 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vemente ammalata e ridotta in fin di vita. Si stima che le SS e le forz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izia abbiano deportato almeno un milione e trecentomila persone 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lesso di Auschwitz, tra il 1940 e il 1945. Di questi, i responsabili dei ca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 uccisero un milione e centomi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uschwi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omplesso di campi di concentramento di Auschwitz fu il più grande realizzato dal regime nazista. Esso comprendeva tre campi principali, tutti destinati inizialmente ai prigioneri selezionati per i lavori forzati. Uno di essi, però, funzionò anche come centro di sterminio per un periodo piuttosto lungo. I campi erano situati circa 45 chilometri ad ovest di Cracovia, tra la Germania e la Polonia in Alta Slesia, una regione che la Germania Nazista si era annessa nel 1939, dopo aver invaso e conquistato la Polonia. Le autorità delle SS crearono tre campi principali vicino alla città polacca di Oswiecim: Auschwitz I, nel maggio del 1940; Auschwitz II all'inizio del 1942; e Auschwitz III nell'ottobre del 194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-22701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620x414xl43-auschwitz-120715221433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uschwitz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uschwitz I - il campo principale - fu il primo a es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alizzato vicino a Oswiecim. La costruzione cominciò 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ggio del 1940 in una caserma abbando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'artiglieria polacca. Auschwitz I era stato costruit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e obiettivi: 1) incarcerare a tempo indeterminato nem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ri e presunti 2) avere rifornimento continu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odopera da destinare ai lavori forzati 3) elimin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sicamente piccoli gruppi all'interno della popolazione,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ui morte veniva ritenuta essenziale per la sicurezza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rmania Nazista. Auschwitz I aveva una camera a gas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cremato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uschwitz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costruzione di Auschwitz II, o Auschwitz-Birkenau, cominciò n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si di Brzezinka nell’ottobre del 1941. Fu quello che ebbe il magg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umero di prigionieri. Il campo era costituito da oltre una dozzina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ttori, separati da recinti di filo spinato elettrificato e pattugliati da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uardie delle SS e, a partire dal 1942, anche da soldati accompagn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 cani. Il campo includeva un settore femminile, uno maschile, 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le famiglie Rom (Zingar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uschwitz-Birkenau aveva anche le strutture e le attrezzature di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ntro di sterminio e, infatti, il campo svolse un ruolo centrale nel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desco per assassinare gli Ebrei d’Europa. Durante l’estate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utunno del 1941, il gas Zyklon B cominciò a venir usato nei campi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centramento. Vennero quindi costruiti tra il marzo e il giugno 19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ttro grandi crematori. Ognuno era costituito da tre parti: 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ogliatoio, una grande camera a gas e un'area che conteneva i for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emato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uschwitz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uschwitz III, anche chiamato Buna o Monowitz, v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eato nell’ottobre del 1942 per ospitare i prigioni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ssegnati al lavoro forzato nello stabilimento di go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ntetica di Buna nell’autunno del 1942, non app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iziarono i lavori per la costruzione di Auschwitz III,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tenuti destinati al lavoro forzato a Buna vi furono trasfer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abil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l'interno di Auschwitz III si trovava anche un ca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iamato di Educazione al Lavoro per i prigionieri non-ebrei che erano stati riconosciuti colpevoli della violazione delle leggi tedesche che regolavano la disciplina sul posto di lavo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R110_jpg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e deportazioni 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da Auschwi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 Auschwitz-Birkenau arrivavano con regolarità i treni carichi di Ebre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venienti da tutti i paesi europei.Questi trasporti continuar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interrottamente dal 1942 fino alla fine dell’estate 194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totale, circa un milione e centomila Ebrei furono deportati ad Auschwitz d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S e dalla polizia insieme a circa 200.000 altre vit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ppena arrivati ad Auschwitz-Birkenau i prigionieri dovevano subire il 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selezione durante il quale le SS generalmente decidevano immedia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e la maggior parte non era adatta al lavoro forzato, destinandola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eguenza subito alle camere a gas; queste ultime erano camuffate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ndi locali docce per ingannare le vittime e tenerle tranquil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operazioni di sterminio con il gas continuarono fino al novembre del 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ndo le SS, seguendo gli ordini di Himmler, cominciarono a smantellare 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mere a gas ancora funzionan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album-auschwitz-img1[1]"/>
          <p:cNvPicPr/>
          <p:nvPr/>
        </p:nvPicPr>
        <p:blipFill>
          <a:blip r:embed="rId1"/>
          <a:stretch/>
        </p:blipFill>
        <p:spPr>
          <a:xfrm>
            <a:off x="-304920" y="-38160"/>
            <a:ext cx="975384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3:22:14Z</dcterms:created>
  <dc:creator>WinVista</dc:creator>
  <dc:description/>
  <dc:language>en-US</dc:language>
  <cp:lastModifiedBy>utente</cp:lastModifiedBy>
  <dcterms:modified xsi:type="dcterms:W3CDTF">2013-01-24T09:09:0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