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12F1-107F-4AE6-9032-8E09BB22C3C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14C-C970-46BE-97F5-9A3C5BCFB6C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AA12-6680-48B7-BA64-EF8551D4052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C8F-836E-4EA3-BEFB-8367AD8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8000-5C83-4BE6-BBCF-F99F33C4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55F-1742-44A9-AF23-E57EB085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E68-FBA8-4670-AEA4-F8403AFF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5AD-956B-4E31-809E-A5476C33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4AA-92CD-45F0-83D4-BA04449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8B2-1914-4BB6-9E3C-74FA99DE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D40-D2B2-4882-82B2-92B9D478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235-4E64-446B-A467-8279EC2F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BD9-02CA-47FC-A10B-C1D9AD9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931-334C-4222-804F-26D84E82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164-A69E-4112-BCDD-E4C7A63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6A5-9A77-45FF-A670-646DBF29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f7f7f"/>
                </a:solidFill>
                <a:latin typeface="Calibri"/>
              </a:rPr>
              <a:t>Monchieri Davide</a:t>
            </a:r>
            <a:br>
              <a:rPr sz="2400"/>
            </a:br>
            <a:r>
              <a:rPr b="0" lang="it-IT" sz="2400" spc="-1" strike="noStrike">
                <a:solidFill>
                  <a:srgbClr val="262626"/>
                </a:solidFill>
                <a:latin typeface="Calibri"/>
              </a:rPr>
              <a:t>Il campo di concentramento di</a:t>
            </a:r>
            <a:br>
              <a:rPr sz="2400"/>
            </a:br>
            <a:r>
              <a:rPr b="0" lang="it-IT" sz="4400" spc="-1" strike="noStrike">
                <a:solidFill>
                  <a:srgbClr val="254061"/>
                </a:solidFill>
                <a:latin typeface="Calibri"/>
              </a:rPr>
              <a:t>Auschwit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1268280"/>
            <a:ext cx="662616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262626"/>
                </a:solidFill>
                <a:latin typeface="Calibri"/>
              </a:rPr>
              <a:t>"Arbeit macht frei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alibri"/>
              </a:rPr>
              <a:t>Il lavoro rende libe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262626"/>
                </a:solidFill>
                <a:latin typeface="Calibri"/>
              </a:rPr>
              <a:t>Il campo di concentramento di Auschwitz fu uno dei tre campi principali che formavano il complesso concentrazionario situato nelle vicinanze di Auschwitz in Polonia insieme a quello di Birkenau e quello di Monowitz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68360" y="2832120"/>
            <a:ext cx="4607280" cy="2663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227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33116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254061"/>
                </a:solidFill>
                <a:latin typeface="Calibri"/>
              </a:rPr>
              <a:t>Auschwit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3322800" cy="558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È stato reso operativo dal 14 giugno 1940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Il 3 settembre 1941 venne       sperimentato per la prima volta il gas  antiparassitario su 850 prigionieri che sarebbe stato usato, in seguito, per  il genocidio ebraico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it-IT" sz="1600" spc="-1" strike="noStrike">
                <a:solidFill>
                  <a:srgbClr val="0d0d0d"/>
                </a:solidFill>
                <a:latin typeface="Calibri"/>
              </a:rPr>
              <a:t>Il 20 maggio 1940 arrivarono al campo i primi 30 prigionier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0d0d"/>
                </a:solidFill>
                <a:latin typeface="Calibri"/>
              </a:rPr>
              <a:t>- Il 10 giugno 1940 furono ordinati i progetti per un primo crematori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Nella notte tra il 17 e il 18 dicembre 2009 l'insegna posta all'ingresso del campo è stata rubata, ma è stata ritrovata al nord della polon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Dal 1979 è patrimonio dell'umanità dell'UNES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- I campi di sterminio assicuravano tre necessità:  la segretezza delle operazioni, l’efficienza nello sterminio e l’indipendenza dall’ eserci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00720" y="692280"/>
            <a:ext cx="410364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 DETENUTI RAGGIUNGEVANO IL CAMPO PER MEZZO DI TRENI O CONVOGLI.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 APPENA SCENDEVANO VENIVANO SUDDIVISI IN BASE ALLE LORO ABILITÀ, CHI AVEVA PROBLEMI MOTORI O MENTALI SAREBBE PROBABILMENTE STATO UCCISO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SUL BRACCIO SINISTRO VENIVANO TATUATI DEI NUMERI CHE AVREBBERO SOSTITUITO IL LORO NOME, AVEVANO ANCHE UN CONTRASSEGNO COLORATO CHE IDENTIFICAVA LA CATEGORIA DELLA PERSONA CHE LO PORTAVA: PRIGIONIERI POLITICI, CRIMINALI, IMMIGRATI, TESTIMONI DI GEOVA, OMOSESSUALI, ROM O SINTI. 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VENIVANO FATTI SPOGLIARE, BAGNATI CON ACQUA BOLLENTE O GELATA E POI CONSEGNATE LE UNIFORMI CHE CONSISTEVANO IN UNA CAMICIA A RIGHE, UN PAIO DI MUTANDE E DEGLI ZOCCOLI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I PRIGIONIERI MANGIAVANO TRE VOLTE AL GIORNO: AL MATTINO RICEVEVANO MEZZO LITRO DI SURROGATO DI CAFFÈ CON UN  INFUSO DI ERBE, A MEZZOGIORNO UNA ZUPPA CON PATATE, RAPE O CAVOLI CHE SPESSO VENIVA MANGIATA FREDDA, E PER CENA SURROGATO DI CAFFÈ CON MARGARINA O SALAME. I PASTI NON CONTENEVANO ABBASTANZA CALORIE E FU ANCHE QUESTO MOTIVO DI MALATTIE E MORTI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LE CAMERE A GAS FURONO L'EFFICIENTE MEZZO DI ESECUZIONE CHE CONSENTÌ ALLE SS DI ANNIENTARE IN POCHI MESI UN POPOLO INTERO.</a:t>
            </a:r>
            <a:br>
              <a:rPr sz="1600"/>
            </a:br>
            <a:r>
              <a:rPr b="0" lang="en-US" sz="1600" spc="-1" strike="noStrike">
                <a:solidFill>
                  <a:srgbClr val="404040"/>
                </a:solidFill>
                <a:latin typeface="Calibri"/>
              </a:rPr>
              <a:t> OGNI GIORNO TRE FORNI CREMATORI PROVVEDEVANO A BRUCIARE I CADAVERI DI MIGLIAIA DI INNOCEN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840" y="188640"/>
            <a:ext cx="89298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I prigioni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1238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it-IT" sz="4400" spc="-1" strike="noStrike">
                <a:solidFill>
                  <a:srgbClr val="558ed5"/>
                </a:solidFill>
                <a:latin typeface="Calibri"/>
              </a:rPr>
              <a:t>Adolf Hitl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160" y="3716280"/>
            <a:ext cx="866772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d0d0d"/>
                </a:solidFill>
                <a:latin typeface="Calibri"/>
              </a:rPr>
              <a:t>    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d0d0d"/>
                </a:solidFill>
                <a:latin typeface="Calibri"/>
              </a:rPr>
              <a:t>                    </a:t>
            </a:r>
            <a:r>
              <a:rPr b="0" lang="it-IT" sz="4400" spc="-1" strike="noStrike">
                <a:solidFill>
                  <a:srgbClr val="558ed5"/>
                </a:solidFill>
                <a:latin typeface="Calibri"/>
              </a:rPr>
              <a:t>Anna Frank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d0d0d"/>
                </a:solidFill>
                <a:latin typeface="Calibri"/>
              </a:rPr>
              <a:t>Anna Frank, divenne famosa per il suo diario, fu trasferita dal campo di concentramento di Bergen-Belsen a quello di Auschwitz dove rimase dal settembre all’ ottobre del 1944 quando morì di tifo un anno prima che i cancelli di Auschwitz furono aper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398520" y="1844640"/>
            <a:ext cx="842472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dolf Hitler nacque il 20 aprile 1889, fu un politico austriaco neutralizzato Tedesco, il Capo del partito Nazionalsocialista dei Lavoratori e il principale del nazionalsocialismo; fu lui la principale causa dell’uccisione e dello sterminio di così tante pers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i suicido il 30 aprile 1945 all’età di 65 anni in un bunker insieme a sua moglie Eva Braun  perché i nemici continuavano ad avanzare e probabilmente sarebbe stato ucci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460440" y="-433440"/>
            <a:ext cx="15429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6229440" y="128520"/>
            <a:ext cx="230652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Connettore 1 9"/>
          <p:cNvSpPr/>
          <p:nvPr/>
        </p:nvSpPr>
        <p:spPr>
          <a:xfrm>
            <a:off x="38160" y="3573360"/>
            <a:ext cx="914400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2"/>
          <a:stretch/>
        </p:blipFill>
        <p:spPr>
          <a:xfrm>
            <a:off x="6227640" y="3840120"/>
            <a:ext cx="201780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20680"/>
            <a:ext cx="649764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rimo levi</a:t>
            </a:r>
            <a:br>
              <a:rPr sz="4000"/>
            </a:br>
            <a:r>
              <a:rPr b="0" lang="en-US" sz="25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8000" y="1412640"/>
            <a:ext cx="8928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" spc="-1" strike="noStrike">
                <a:solidFill>
                  <a:srgbClr val="262626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1" lang="it-IT" sz="1400" spc="-1" strike="noStrike">
                <a:solidFill>
                  <a:srgbClr val="262626"/>
                </a:solidFill>
                <a:latin typeface="Calibri"/>
              </a:rPr>
              <a:t>Primo Levi,  fu uno scrittore ebreo italiano, imprigionato per 11 mesi ad Auschwitz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62626"/>
                </a:solidFill>
                <a:latin typeface="Calibri"/>
              </a:rPr>
              <a:t>                              </a:t>
            </a:r>
            <a:r>
              <a:rPr b="1" lang="it-IT" sz="1400" spc="-1" strike="noStrike">
                <a:solidFill>
                  <a:srgbClr val="262626"/>
                </a:solidFill>
                <a:latin typeface="Calibri"/>
              </a:rPr>
              <a:t>Fu liberato dall'Armata Rossa, e scrisse le sue memorie in Se questo è un uom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62626"/>
                </a:solidFill>
                <a:latin typeface="Calibri"/>
              </a:rPr>
              <a:t>Se questo è un u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Voi che vivete sicu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Nelle vostre tiepide ca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Voi che trovate tornando a s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Il cibo caldo e visi amic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onsiderate se questo è un uom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he lavora nel fan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he non conosce 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he lotta per mezzo p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he muore per un sì o per un 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onsiderate se questa è una donn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Senza capelli e senza n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Senza più forza di ricord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Vuoti gli occhi e freddo il grem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ome una rana d'invern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Meditate che questo è sta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Vi comando queste paro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Scolpitele nel vostro cu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Stando in casa andando per v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Coricandovi alzandov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Ripetetele ai vostri fig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O vi si sfaccia la cas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La malattia vi impedisc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262626"/>
                </a:solidFill>
                <a:latin typeface="Calibri"/>
              </a:rPr>
              <a:t>I vostri nati torcano il viso da vo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659640" y="41400"/>
            <a:ext cx="2233440" cy="133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00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 27 GENNAIO 1945 LE TRUPPE SOVIETICHE DELL’ ARMATA ROSSA ARRIVARONO 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AUSCHWITZ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E LIBERARONO I POCHI SUPERSTITI RIMASTI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COSÌ OGNI ANNO SI COMMEMORANO LE VITTIME E LE MORTI CHE HA CAUSATO IL NAZIONALISM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IL COSIDDETTO GIORNO DELLA MEMORIA O SHOAH IN CUI LE PERSONE RICORDANO I FATTI CHE SONO ACCADUTI IN MODO DA EVITARL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D AUSCHWITZ MORIRONO CIRCA  UN MILIONE E 250 000 PERSONE TRA CUI BAMBINI, ANZIANI, DONNE E UOMINI, MENTRE IN TOTALE FURONO STERMINATE BEN DAI 12 AI 17 MILIONI DI PERSONE TRA CUI SEI MILIONI DI EBREI CHE SECONDO I PIANI NAZISTI AVREBBERO DOVUTO SCOMPARIRE DALLA TERR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d0d0d"/>
                </a:solidFill>
                <a:latin typeface="Calibri"/>
              </a:rPr>
              <a:t>MONCHIERI DAV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5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953735"/>
                </a:solidFill>
                <a:latin typeface="Calibri"/>
              </a:rPr>
              <a:t>Il giorno della mem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</a:rPr>
              <a:t>ricordare per evit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12:18:54Z</dcterms:created>
  <dc:creator>User</dc:creator>
  <dc:description/>
  <dc:language>en-US</dc:language>
  <cp:lastModifiedBy>utente</cp:lastModifiedBy>
  <dcterms:modified xsi:type="dcterms:W3CDTF">2013-01-25T11:57:34Z</dcterms:modified>
  <cp:revision>90</cp:revision>
  <dc:subject/>
  <dc:title>Il campo di concentramento di Auschwitz</dc:title>
</cp:coreProperties>
</file>