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2D559-07ED-4C4D-8FE8-8449105BD1C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11729-2F8D-476A-B155-11EE56B2D0B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6934B-0922-4C73-A68D-D3BE2D0032E0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39CB7EE2-9C7E-47FE-AD3A-ADDAAA1AF0DE}" type="slidenum">
              <a:rPr b="0" lang="it-IT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D62C9-6B32-49AE-8B42-D160CCA4484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0FA44D-BFFC-4892-BCD6-8B2BAC5ECEF0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37A5F-244B-4C3E-801F-5291203F40F7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84217-BE77-42FC-8243-410AA083C812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2010D-2E94-428B-B64D-CB588914BEB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BB3735-CD49-4367-B9B9-B96DEC9684A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AAE554-B2A5-4A20-BF36-228337601B75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1ADB96-B40A-4B0A-BFB3-197F742A7D82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8758A40B-7B15-4D99-B9E5-D6628582F387}" type="slidenum">
              <a:rPr b="0" lang="it-IT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68B44-A586-47AF-A4E4-ACAE5D043B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6E62E-CB95-45DD-8068-E058B5F5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956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B851B-21F6-425A-BE54-36861FAB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736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752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736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752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6A648-FAA0-47CF-A3D1-06B9FCFA23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1E63B9-7E03-4770-8F09-467D60BECE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52E10-E277-474A-95FB-4898B26D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6EE676-C138-4EE0-AE6F-C408FEA4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0E5BB9-6966-47AF-8CCF-56583F63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66B46-AAF5-4205-8EAE-E9DCBD4BC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740B2-011F-47F2-BAD3-8A025557D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9D5CAB-77B9-418B-AF40-D34B6CE0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84F87-4AC7-40E7-8FE9-76F141A3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956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63FBD-77F4-403E-A2A9-2E044968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5D6116-47D0-487A-9170-7CD62BF7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1A357-13A9-45FB-80E4-97E30975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956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8BDFB-FD00-47BE-9543-5681BBE8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736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9752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736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9752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21CEFA-FF85-4354-8EEE-473726071C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229D-FDAF-452F-8E28-0F2614A31F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F424-EBFE-4A74-B2D5-54AF9C21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1864-E16D-4863-B2E8-28DA1821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6F49-FA0D-410B-B2D8-9965747C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3D46-2B14-49B8-AA86-A9EF41403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449C7-A02D-4ABF-A3A2-1A9F425C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28FB-6CF3-46FA-B67D-C31E0F437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F6AD-5F7C-408A-8044-369EA8C2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956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C08D-FF5C-4CA9-877F-BAF5A71B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0785-C03D-49E4-954E-FFBF4F01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3A10-4D35-4DA5-AFD6-18E0AFEB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956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0914-465D-421E-9FAE-67A28387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736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89752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736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89752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FC1D-B79B-4204-9B2F-13C6905249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DD6A4-4851-4BAF-8CEE-0EBCCB04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7C412-F44E-4D4F-97F6-08E3C8AFA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93ADE-D52B-43D0-B05C-446CE2B49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73BC7-BA29-49F7-8B71-011169D6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956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99868-069F-48F4-91F1-04852BA0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ACC02-6255-4E57-86E7-27133184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8160" cy="1827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it-IT" sz="1800" spc="-1" strike="noStrike">
                <a:solidFill>
                  <a:srgbClr val="ffffff"/>
                </a:solidFill>
                <a:latin typeface="Book Antiqua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12F3258C-8FED-4DE7-AF40-C1BDED0EC81C}" type="datetime">
              <a:rPr b="0" lang="it-IT" sz="1800" spc="-1" strike="noStrike">
                <a:solidFill>
                  <a:srgbClr val="ffffff"/>
                </a:solidFill>
                <a:latin typeface="Book Antiqua"/>
                <a:ea typeface="Segoe UI"/>
              </a:rPr>
              <a:t>28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it-IT" sz="1800" spc="-1" strike="noStrike">
                <a:solidFill>
                  <a:srgbClr val="ffffff"/>
                </a:solidFill>
                <a:latin typeface="Book Antiqua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D04E7B26-37D0-4734-BCFC-4E47CD7BF8D1}" type="slidenum">
              <a:rPr b="0" lang="it-IT" sz="1800" spc="-1" strike="noStrike">
                <a:solidFill>
                  <a:srgbClr val="ffffff"/>
                </a:solidFill>
                <a:latin typeface="Book Antiqua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it-IT" sz="1800" spc="-1" strike="noStrike">
                <a:solidFill>
                  <a:srgbClr val="ffffff"/>
                </a:solidFill>
                <a:latin typeface="Book Antiqua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2F1188F6-BD96-4987-B281-F094E3177A60}" type="datetime">
              <a:rPr b="0" lang="it-IT" sz="1800" spc="-1" strike="noStrike">
                <a:solidFill>
                  <a:srgbClr val="ffffff"/>
                </a:solidFill>
                <a:latin typeface="Book Antiqua"/>
                <a:ea typeface="Segoe UI"/>
              </a:rPr>
              <a:t>28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it-IT" sz="1800" spc="-1" strike="noStrike">
                <a:solidFill>
                  <a:srgbClr val="ffffff"/>
                </a:solidFill>
                <a:latin typeface="Book Antiqua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D125E04E-7944-459C-A8E1-C18D72D20C08}" type="slidenum">
              <a:rPr b="0" lang="it-IT" sz="1800" spc="-1" strike="noStrike">
                <a:solidFill>
                  <a:srgbClr val="ffffff"/>
                </a:solidFill>
                <a:latin typeface="Book Antiqua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5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it-IT" sz="1800" spc="-1" strike="noStrike">
                <a:solidFill>
                  <a:srgbClr val="ffffff"/>
                </a:solidFill>
                <a:latin typeface="Book Antiqua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8899A399-D3B1-49D0-A501-F87C96133B07}" type="datetime">
              <a:rPr b="0" lang="it-IT" sz="1800" spc="-1" strike="noStrike">
                <a:solidFill>
                  <a:srgbClr val="ffffff"/>
                </a:solidFill>
                <a:latin typeface="Book Antiqua"/>
                <a:ea typeface="Segoe UI"/>
              </a:rPr>
              <a:t>28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6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it-IT" sz="1800" spc="-1" strike="noStrike">
                <a:solidFill>
                  <a:srgbClr val="ffffff"/>
                </a:solidFill>
                <a:latin typeface="Book Antiqua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8DC5CAB4-D838-4382-A718-632AF0629CA8}" type="slidenum">
              <a:rPr b="0" lang="it-IT" sz="1800" spc="-1" strike="noStrike">
                <a:solidFill>
                  <a:srgbClr val="ffffff"/>
                </a:solidFill>
                <a:latin typeface="Book Antiqua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1"/>
          <p:cNvSpPr/>
          <p:nvPr/>
        </p:nvSpPr>
        <p:spPr>
          <a:xfrm rot="240000">
            <a:off x="408600" y="547560"/>
            <a:ext cx="8072640" cy="1739880"/>
          </a:xfrm>
          <a:prstGeom prst="pie">
            <a:avLst/>
          </a:prstGeom>
          <a:solidFill>
            <a:srgbClr val="7030a0"/>
          </a:solidFill>
          <a:ln w="25560">
            <a:solidFill>
              <a:srgbClr val="6585c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5400" spc="-1" strike="noStrike">
                <a:solidFill>
                  <a:srgbClr val="000000"/>
                </a:solidFill>
                <a:latin typeface="Aharoni"/>
              </a:rPr>
              <a:t>CAMPO DI CONCENTRAMEN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"/>
          <p:cNvSpPr/>
          <p:nvPr/>
        </p:nvSpPr>
        <p:spPr>
          <a:xfrm>
            <a:off x="2143080" y="5286240"/>
            <a:ext cx="6427800" cy="398880"/>
          </a:xfrm>
          <a:prstGeom prst="pie">
            <a:avLst/>
          </a:prstGeom>
          <a:solidFill>
            <a:srgbClr val="ffffff"/>
          </a:solidFill>
          <a:ln w="25560">
            <a:solidFill>
              <a:srgbClr val="6585c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haroni"/>
              </a:rPr>
              <a:t>ROBERTA ERCOL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1000080" y="2428920"/>
            <a:ext cx="2857680" cy="2755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4143240" y="25002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34" name="Giovanni Bomoll - Kelly.mp3" descr=""/>
          <p:cNvPicPr/>
          <p:nvPr/>
        </p:nvPicPr>
        <p:blipFill>
          <a:blip r:embed="rId3"/>
          <a:stretch/>
        </p:blipFill>
        <p:spPr>
          <a:xfrm>
            <a:off x="4859280" y="907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1"/>
          <p:cNvSpPr/>
          <p:nvPr/>
        </p:nvSpPr>
        <p:spPr>
          <a:xfrm>
            <a:off x="642960" y="500040"/>
            <a:ext cx="7358040" cy="5302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Guardando queste immagini e leggendo  alcune testimonianze sarebbe più facile pensare che siano cose non accadute, irreali perché mi sembra impossibile che degli uomini possano trattare così,  i loro simili, neanche gli animali dovrebbero essere trattati in questo modo perché la vita è la cosa più import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erò appunto il giorno della memoria ci aiuta a non dimentic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’ accaduto perché non succedano più delle simili barbar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nche nella società  odierna,  ci sono delle discriminazioni, forse non così pesanti … oramai lo stato ha tolto le leggi razziali ma  ci sono ancora persone che provano disgusto verso lo straniero, che lo considerano inferiore, e che non  meriti rispet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oncludo la mia ricerca riflettendo anche sul comportamento di noi ragazzi, in fondo, anche se a volte non ce ne rendiamo conto, facciamo piccole discriminazioni, ad esempio se uno non è al moda,  non è abbastanza simpatico  viene emarginato,  se uno non fa le cose che fa la massa viene messo da par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ovremmo imparare invece ad agire  in maniera autonoma e a non farci condizionare  dal gruppo dei pa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" descr=""/>
          <p:cNvPicPr/>
          <p:nvPr/>
        </p:nvPicPr>
        <p:blipFill>
          <a:blip r:embed="rId1"/>
          <a:stretch/>
        </p:blipFill>
        <p:spPr>
          <a:xfrm>
            <a:off x="4929120" y="1500120"/>
            <a:ext cx="3414960" cy="2071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"/>
          <p:cNvSpPr/>
          <p:nvPr/>
        </p:nvSpPr>
        <p:spPr>
          <a:xfrm>
            <a:off x="457200" y="333360"/>
            <a:ext cx="822960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SE QUESTO E’ UN  UOM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Voi che vivete sicuri 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Nelle vostre tiepide case, 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Voi che trovate tornando a sera 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Il cibo caldo e visi amici: 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Considerate se questo è un uomo 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Che lavora nel fango 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Che non conosce pace 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Che lotta per mezzo pane 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Che muore per un sì o per un no. 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Considerate se questa è una donna, 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Senza capelli e senza nome 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Senza più forza di ricordare 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Vuoti gli occhi e freddo il grembo 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Come una rana d'inverno. 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Meditate che questo è stato: 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Vi comando queste parole. 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Scolpitele nel vostro cuore 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Stando in casa andando per via, 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Coricandovi, alzandovi; 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Ripetetele ai vostri figli. 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O vi si sfaccia la casa, 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La malattia vi impedisca, 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I vostri nati torcano il viso da vo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PRIMO LEV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6000840" y="3786120"/>
            <a:ext cx="2571840" cy="1947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1"/>
          <p:cNvSpPr/>
          <p:nvPr/>
        </p:nvSpPr>
        <p:spPr>
          <a:xfrm>
            <a:off x="285840" y="214200"/>
            <a:ext cx="8858160" cy="3443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omic Sans MS"/>
              </a:rPr>
              <a:t>COSA SONO I LAGER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 Lager furono utilizzati dal regime nazista dal 1933 ,venivano rinchiusi qui  gli oppositori politici,  ma soprattutto il popolo ebraic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Nel primo periodo, con  l’ ascesa al potere di Hitler, i lager avevano lo scopo di "rieducare" i Tedeschi Antinazi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Venivano costruiti solitamente per esercitare una stretta sorveglianza su un gran numero di individui sia della nazione  sia stranier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ivennero, sede della "soluzione finale" contro gli  ebrei, oltre che di sperimentazioni pseudo-scientifiche su esseri uman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e SS, coerenti con il "credo hitleriano", agivano quindi con brutalità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428840" y="3786120"/>
            <a:ext cx="4405320" cy="283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258920" y="4221000"/>
            <a:ext cx="3282840" cy="2462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1042920" y="184464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3"/>
          <a:stretch/>
        </p:blipFill>
        <p:spPr>
          <a:xfrm>
            <a:off x="4500720" y="1700280"/>
            <a:ext cx="3719520" cy="28461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064720" cy="144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8800" spc="-1" strike="noStrike" u="sng">
                <a:solidFill>
                  <a:srgbClr val="ffffff"/>
                </a:solidFill>
                <a:uFillTx/>
                <a:latin typeface="Lucida Sans"/>
              </a:rPr>
              <a:t>AUSCHWITZ</a:t>
            </a:r>
            <a:endParaRPr b="0" lang="en-US" sz="8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4" name="Picture 10" descr="ANd9GcRjtG-U1-sAbJusBjEfI12MpUSpD0iuzqjq6cOh8uoTARnqt9FJzg"/>
          <p:cNvPicPr/>
          <p:nvPr/>
        </p:nvPicPr>
        <p:blipFill>
          <a:blip r:embed="rId4"/>
          <a:stretch/>
        </p:blipFill>
        <p:spPr>
          <a:xfrm>
            <a:off x="4716360" y="4508640"/>
            <a:ext cx="2952720" cy="19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5429160" y="3571920"/>
            <a:ext cx="3214800" cy="21366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2"/>
          <p:cNvSpPr/>
          <p:nvPr/>
        </p:nvSpPr>
        <p:spPr>
          <a:xfrm>
            <a:off x="71280" y="642960"/>
            <a:ext cx="907272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363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campo di concentramento di Auschwitz fu uno dei tre ca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3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rincipali ,facevano parte del complesso 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3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_ il campo di sterminio di Birkena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3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_ il campo di lavoro di Monowitz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3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_ i 45 sottocampi costruiti durante l’ occupazione tedesca della Polo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357120" y="2928960"/>
            <a:ext cx="4921200" cy="35719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457200" y="214200"/>
            <a:ext cx="8229600" cy="60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363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uschwitz  è stato reso operativo d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3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14 giugno 194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3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inchiusero qui un numero che va da 15.000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3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oltre 20.000 persone (uomini, donne, bambin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3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Vennero quasi tutti uccisi, nella camera a gas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3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 causa delle impossibili condizioni di lavoro, 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3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ercosse, torture, malattie, fam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3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esperimenti medici CRIMINA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6004080" y="239760"/>
            <a:ext cx="2495520" cy="2928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684360" y="4005360"/>
            <a:ext cx="4214520" cy="2236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3"/>
          <a:stretch/>
        </p:blipFill>
        <p:spPr>
          <a:xfrm>
            <a:off x="5467320" y="253512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4"/>
          <a:stretch/>
        </p:blipFill>
        <p:spPr>
          <a:xfrm>
            <a:off x="3500280" y="4500720"/>
            <a:ext cx="3143520" cy="2357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1"/>
          <p:cNvSpPr/>
          <p:nvPr/>
        </p:nvSpPr>
        <p:spPr>
          <a:xfrm>
            <a:off x="500040" y="428760"/>
            <a:ext cx="8218440" cy="19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Nelle sotterranee di  Auschwitz, che erano appunto le prigioni del campo, il 3 settembre 1941 venne sperimentato per la prima volta, dal vicecomandante del campo, il gas antiparassitario, usato in quell’ occasione per l’ uccisione di 850 prigionieri , in seguito per lo sterminio degli Ebr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714240" y="3143160"/>
            <a:ext cx="2857680" cy="2362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4286160" y="1928880"/>
            <a:ext cx="3303720" cy="2192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3"/>
          <a:stretch/>
        </p:blipFill>
        <p:spPr>
          <a:xfrm>
            <a:off x="4000680" y="4214880"/>
            <a:ext cx="3786120" cy="23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2305080" cy="22399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2"/>
          <p:cNvSpPr/>
          <p:nvPr/>
        </p:nvSpPr>
        <p:spPr>
          <a:xfrm>
            <a:off x="0" y="3500280"/>
            <a:ext cx="914400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1785960" y="214200"/>
            <a:ext cx="6286320" cy="763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Book Antiqua"/>
              </a:rPr>
              <a:t>ANNA FR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2843280" y="981000"/>
            <a:ext cx="5689440" cy="57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Vorrei citare anche Anna Frank, una ragazzina ebrea di 13 anni che scrisse un diario mentre si nascondeva con la famiglia dai nazist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urante la persecuzione agli ebre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Nacque a Francoforte, in Germania, primo luogo per la persecuzione ebra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La sua era una famiglia agiata e il padre esercitava la professione di banchi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Furono costretti a trasferirsi ad Amsterdam per sfuggire alle persecuzioni, dopo l'occupazione tedesca dell'Olanda, Anna e i suoi familiari 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sistemarono in un alloggio segreto, un piccolo spazio a due piani che si trovava sopra una vecchia fabbric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La porta del piccolo alloggio era nascosta dietro una libreri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Nel nascondiglio trovarono rifugio 8 persone:i genitori di Anna; la sorella maggiore Margot; un dentista ebreo e i signori van Daan con il loro figlio Pet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Vennero poi scoperti e portati nei campi di lavoro forzato sopravvisse solo il padre di Anna, che consegnò poi questo diario, che è diventato uno dei libri più venduti al Mondo. </a:t>
            </a:r>
            <a:br>
              <a:rPr sz="1600"/>
            </a:br>
            <a:br>
              <a:rPr sz="15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Anna-Frank-700x723"/>
          <p:cNvPicPr/>
          <p:nvPr/>
        </p:nvPicPr>
        <p:blipFill>
          <a:blip r:embed="rId2"/>
          <a:stretch/>
        </p:blipFill>
        <p:spPr>
          <a:xfrm>
            <a:off x="250920" y="3429000"/>
            <a:ext cx="2300040" cy="2376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1"/>
          <p:cNvSpPr/>
          <p:nvPr/>
        </p:nvSpPr>
        <p:spPr>
          <a:xfrm>
            <a:off x="214200" y="1000080"/>
            <a:ext cx="8929800" cy="447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27 gennaio 1940 il campo fu liberato dalle truppe sovietiche  durante la loro rapida avanzata invernale dalla Vistola all’ Od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Furono trovati circa 7.000 prigionieri ancora in vita e miglia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i indumenti abbandonati, oggetti vari che possedevano i prigionie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rima di entrare nel campo e 8 tonnellate di capelli umani imballati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ronti per il traspor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opo la sua dismissione il campo di concentramento di Auschwi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è divenuto un luogo simbolo, dedicato alla memoria delle vit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 resti delle camere a gas sono aperte al pubbl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E’ diventato, appunto patrimonio dell’ UNES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n Germania, dal 1996, il 27 gennaio è diventata la data in cui si ricordano le Vittime del fasc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nche in Italia la stessa data è ricordata come Giorno della memo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istiano</dc:creator>
  <dc:description/>
  <dc:language>en-US</dc:language>
  <cp:lastModifiedBy>Cristiano Re</cp:lastModifiedBy>
  <dcterms:modified xsi:type="dcterms:W3CDTF">2013-04-04T16:23:28Z</dcterms:modified>
  <cp:revision>11</cp:revision>
  <dc:subject/>
  <dc:title>Diapositiva 1</dc:title>
</cp:coreProperties>
</file>