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74383-3206-4776-84FD-918879D14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D79D8-AD2E-4C7A-A1FB-190E4B945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D7D4A-8ECB-44FA-BA58-F3EF0404D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85025-DB12-499D-BB7C-D1B8308FA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29CD6-575D-4D62-B6B2-7EC46A81D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8323D-2367-41C3-B07F-A8E966DD8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C79CE-5D14-47E8-99D8-959E0C40A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9A159-DFE6-4627-A2AB-E175C691A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AFB4E-261C-4AB8-9281-370BD6253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C80D0-1DAE-4AA4-BC2C-9AEC96F7A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F774F-4464-4616-8FF1-A25C34DEB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CC408-B53D-4EFD-9039-5D1C3ACA2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32FA-F929-4639-B5B3-ACC6230CE4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1" name=""/>
          <p:cNvSpPr/>
          <p:nvPr/>
        </p:nvSpPr>
        <p:spPr>
          <a:xfrm>
            <a:off x="-635040" y="3732480"/>
            <a:ext cx="9779040" cy="3157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r>
              <a:rPr b="0" lang="it-IT" sz="2200" spc="-1" strike="noStrike">
                <a:solidFill>
                  <a:srgbClr val="000000"/>
                </a:solidFill>
                <a:latin typeface="Times New Roman"/>
                <a:ea typeface="Times New Roman"/>
              </a:rPr>
              <a:t> </a:t>
            </a:r>
            <a:r>
              <a:rPr b="0" lang="it-IT"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   </a:t>
            </a:r>
            <a:r>
              <a:rPr b="0" lang="it-IT" sz="7900" spc="-1" strike="noStrike">
                <a:solidFill>
                  <a:srgbClr val="000000"/>
                </a:solidFill>
                <a:latin typeface="Arial"/>
                <a:ea typeface="Arial"/>
              </a:rPr>
              <a:t> </a:t>
            </a:r>
            <a:r>
              <a:rPr b="0" lang="it-IT" sz="2000" spc="-1" strike="noStrike">
                <a:solidFill>
                  <a:srgbClr val="000000"/>
                </a:solidFill>
                <a:latin typeface="Franklin Gothic Medium"/>
                <a:ea typeface="Arial"/>
              </a:rPr>
              <a:t> </a:t>
            </a:r>
            <a:r>
              <a:rPr b="0" lang="it-IT" sz="2000" spc="-1" strike="noStrike">
                <a:solidFill>
                  <a:srgbClr val="000000"/>
                </a:solidFill>
                <a:latin typeface="Forte"/>
                <a:ea typeface="Arial"/>
              </a:rPr>
              <a:t>"Arbeit Macht Frei" (Il lavoro rende liberi) era l’insegna sopra il cancello di Auschwit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Forte"/>
                <a:ea typeface="Arial"/>
              </a:rPr>
              <a:t> </a:t>
            </a:r>
            <a:br>
              <a:rPr sz="2000"/>
            </a:br>
            <a:r>
              <a:rPr b="0" lang="it-IT" sz="2000" spc="-1" strike="noStrike">
                <a:solidFill>
                  <a:srgbClr val="000000"/>
                </a:solidFill>
                <a:latin typeface="Forte"/>
                <a:ea typeface="Arial"/>
              </a:rPr>
              <a:t>Fu posta lì dal maggiore Rudolph Höss, comandante del camp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Forte"/>
                <a:ea typeface="Arial"/>
              </a:rPr>
              <a:t> </a:t>
            </a:r>
            <a:r>
              <a:rPr b="0" lang="it-IT" sz="2000" spc="-1" strike="noStrike">
                <a:solidFill>
                  <a:srgbClr val="000000"/>
                </a:solidFill>
                <a:latin typeface="Forte"/>
                <a:ea typeface="Arial"/>
              </a:rPr>
              <a:t>Vaira Desirée</a:t>
            </a:r>
            <a:endParaRPr b="0" lang="en-US" sz="2000" spc="-1" strike="noStrike">
              <a:solidFill>
                <a:srgbClr val="000000"/>
              </a:solidFill>
              <a:latin typeface="Arial"/>
            </a:endParaRPr>
          </a:p>
        </p:txBody>
      </p:sp>
      <p:pic>
        <p:nvPicPr>
          <p:cNvPr id="42" name="" descr=""/>
          <p:cNvPicPr/>
          <p:nvPr/>
        </p:nvPicPr>
        <p:blipFill>
          <a:blip r:embed="rId1"/>
          <a:stretch/>
        </p:blipFill>
        <p:spPr>
          <a:xfrm>
            <a:off x="1187280" y="254160"/>
            <a:ext cx="7993080" cy="1114200"/>
          </a:xfrm>
          <a:prstGeom prst="rect">
            <a:avLst/>
          </a:prstGeom>
          <a:ln w="0">
            <a:noFill/>
          </a:ln>
        </p:spPr>
      </p:pic>
      <p:pic>
        <p:nvPicPr>
          <p:cNvPr id="43" name="" descr=""/>
          <p:cNvPicPr/>
          <p:nvPr/>
        </p:nvPicPr>
        <p:blipFill>
          <a:blip r:embed="rId2"/>
          <a:stretch/>
        </p:blipFill>
        <p:spPr>
          <a:xfrm>
            <a:off x="2195640" y="1773360"/>
            <a:ext cx="4895640" cy="2265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8" name=""/>
          <p:cNvSpPr/>
          <p:nvPr/>
        </p:nvSpPr>
        <p:spPr>
          <a:xfrm>
            <a:off x="2286000" y="1122480"/>
            <a:ext cx="4572000" cy="4844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numero delle persone assassinate ad Auschwitz è una questione dibattuta. La stima più precisa è di un milione e centomila persone, nove decimi delle quali ebrei. Subito dopo la guerra, commissioni sovietiche e polacche riferirono di quattro milioni di vittime del campo; il Comandante del campo Rudolf Höss testimoniò che vi morirono tre milioni di persone. È impossibile accertare con esattezza quante persone passarono da Auschwitz per due ragioni. Innanzi tutto, non vi erano registri delle persone assassinate dopo le selezioni alla stazione; non venne loro assegnato un numero né furono mai inseriti nei registri del campo, ma svanirono semplicemente dentro quella che gli stessi nazisti definivano "notte e nebbia" ("Nacht und Neb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9" name=""/>
          <p:cNvSpPr/>
          <p:nvPr/>
        </p:nvSpPr>
        <p:spPr>
          <a:xfrm>
            <a:off x="0" y="1197000"/>
            <a:ext cx="914400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 evasioni erano estremamente rare ad Auschwitz, ma non sconosciute. Il caso più famoso fu quello di Mala Zimetbaum e del suo amante polacco, Edek Galinski. Lei era una Lauferin, o fattorina, al campo, in grado di muoversi per fare delle commissioni e portare messaggi. Entrambi erano stati membri della resistenza anti-nazista, lui in Polonia, lei in Belgio. Lui ottenne un’uniforme delle SS, lei "organizzò" un lasciapassare, e lasciarono il campo insieme sotto le spoglie di una SS che trasportava un prigioniero. </a:t>
            </a:r>
            <a:br>
              <a:rPr sz="1600"/>
            </a:br>
            <a:r>
              <a:rPr b="1" lang="it-IT" sz="1600" spc="-1" strike="noStrike">
                <a:solidFill>
                  <a:srgbClr val="000000"/>
                </a:solidFill>
                <a:latin typeface="Arial"/>
              </a:rPr>
              <a:t>Molti sopravvissuti di Auschwitz li ricordano, poiché ispirarono un’enorme speranza in tutti, ma i racconti divergono sui dettagli della distanza che riuscirono a percorrere prima di essere arrestati e riportati al campo. Alcuni sopravvissuti ricordano che essi arrivarono fino a Cracovia. Tornati ad Auschwitz, furono entrambi torturati e poi portati al patibolo per la pubblica esecuzione. Mala si tagliò le vene dei polsi con una lametta da barba che era riuscita a nascondere, fu picchiata a morte e caricata sul carro per il crematorio senza essere impiccata. Dall’altra parte del campo, Edek s’infilò il cappio e calciò la panca prima che la sentenza di morte fosse letta; le SS lo salvarono e lo impiccarono nuovamente. </a:t>
            </a:r>
            <a:br>
              <a:rPr sz="1600"/>
            </a:br>
            <a:r>
              <a:rPr b="1" lang="it-IT" sz="1600" spc="-1" strike="noStrike">
                <a:solidFill>
                  <a:srgbClr val="000000"/>
                </a:solidFill>
                <a:latin typeface="Arial"/>
              </a:rPr>
              <a:t>Ci furono seicento altri casi di evasioni da Auschwitz. Quasi quattrocento fuggiaschi furono nuovamente catturati. Quando ci si accorgeva di un’evasione, tutti i prigionieri del campo erano fatti stare sugli attenti per ore, mentre si cercava il fuggitivo al di fuori del campo; una volta catturato, l’evaso era torturato, poi fatto sfilare per il campo con un cartello che diceva "evviva, sono tornato" e poi impiccato di fronte al resto dei prigionieri</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60" name=""/>
          <p:cNvSpPr/>
          <p:nvPr/>
        </p:nvSpPr>
        <p:spPr>
          <a:xfrm>
            <a:off x="3203640" y="370800"/>
            <a:ext cx="252072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e evasion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1" name=""/>
          <p:cNvSpPr/>
          <p:nvPr/>
        </p:nvSpPr>
        <p:spPr>
          <a:xfrm>
            <a:off x="539640" y="189000"/>
            <a:ext cx="7524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l clima di terrore e di morte, vi furono però altri che ebbero il coraggio di organizzare una resistenza clandestina; uomini e donne di diversa provenienza, militanza politica, religione, non esitarono a favorire il sabotaggio, ad aiutare i più deboli, a proteggere i perseguitati sottraendoli alla violenza dei Kapò e delle SS. Vi furono alcuni che tentarono la fuga, specie polacchi e russi, che potevano contare sull'omertà delle popolazioni. </a:t>
            </a:r>
            <a:endParaRPr b="0" lang="en-US" sz="1600" spc="-1" strike="noStrike">
              <a:solidFill>
                <a:srgbClr val="000000"/>
              </a:solidFill>
              <a:latin typeface="Arial"/>
            </a:endParaRPr>
          </a:p>
        </p:txBody>
      </p:sp>
      <p:pic>
        <p:nvPicPr>
          <p:cNvPr id="62" name="" descr="IL “GIORNO DELLA MEMORIA” SU HALLMARK CHANNEL"/>
          <p:cNvPicPr/>
          <p:nvPr/>
        </p:nvPicPr>
        <p:blipFill>
          <a:blip r:embed="rId1"/>
          <a:stretch/>
        </p:blipFill>
        <p:spPr>
          <a:xfrm>
            <a:off x="611280" y="2060640"/>
            <a:ext cx="3429000" cy="2333520"/>
          </a:xfrm>
          <a:prstGeom prst="rect">
            <a:avLst/>
          </a:prstGeom>
          <a:ln w="0">
            <a:noFill/>
          </a:ln>
        </p:spPr>
      </p:pic>
      <p:sp>
        <p:nvSpPr>
          <p:cNvPr id="63" name=""/>
          <p:cNvSpPr/>
          <p:nvPr/>
        </p:nvSpPr>
        <p:spPr>
          <a:xfrm>
            <a:off x="0" y="5545440"/>
            <a:ext cx="91440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l 1945, con l'arrivo degli Americani, il campo viene evacuato e, durante il trasporto, Luciana Nissim riesce a scappare: «Mi sono buttata nel fossato e ho visto passare tutta la squadra col cuore che faceva "tun-tun", poi mi sono arrampicata e mi ha raggiunto un'altra ragazza polacca, anche lei era scappata, e siamo state cinque giorni e cinque notti nella foresta. » </a:t>
            </a:r>
            <a:endParaRPr b="0" lang="en-US" sz="1600" spc="-1" strike="noStrike">
              <a:solidFill>
                <a:srgbClr val="000000"/>
              </a:solidFill>
              <a:latin typeface="Arial"/>
            </a:endParaRPr>
          </a:p>
        </p:txBody>
      </p:sp>
      <p:sp>
        <p:nvSpPr>
          <p:cNvPr id="64" name=""/>
          <p:cNvSpPr/>
          <p:nvPr/>
        </p:nvSpPr>
        <p:spPr>
          <a:xfrm>
            <a:off x="4067280" y="2562480"/>
            <a:ext cx="5076720" cy="131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sperienza del campo mi ha segnato in tutto, però amo pensare che ho girato pagina. Io sono andata via da Auschwitz, non sono più là.» Luciana Nissim Momigliano</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5" name=""/>
          <p:cNvSpPr/>
          <p:nvPr/>
        </p:nvSpPr>
        <p:spPr>
          <a:xfrm>
            <a:off x="0" y="0"/>
            <a:ext cx="9144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 27 gennaio 1945, quando le armate russe puntavano decisamente in direzione di Cracovia, il campo fu sgombrato. Quando i sovietici liberarono il campo si scoprì che le SS avevano cercato di far sparire le tracce dei loro crimini distruggendo i documenti del campo e facendo saltare i forni crematori e le camere a gas. Tutti coloro che potevano camminare furono avviati, a marce forzate, verso altri campi. Fu un'altra ecatombe. Migliaia di uomini e di donne furono abbattuti a colpi di mitra, quando non riuscivano più a muoversi</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6" name="" descr=""/>
          <p:cNvPicPr/>
          <p:nvPr/>
        </p:nvPicPr>
        <p:blipFill>
          <a:blip r:embed="rId1"/>
          <a:stretch/>
        </p:blipFill>
        <p:spPr>
          <a:xfrm>
            <a:off x="1042920" y="1989000"/>
            <a:ext cx="6840720" cy="4319640"/>
          </a:xfrm>
          <a:prstGeom prst="rect">
            <a:avLst/>
          </a:prstGeom>
          <a:ln w="0">
            <a:noFill/>
          </a:ln>
        </p:spPr>
      </p:pic>
      <p:pic>
        <p:nvPicPr>
          <p:cNvPr id="67" name="" descr=""/>
          <p:cNvPicPr/>
          <p:nvPr/>
        </p:nvPicPr>
        <p:blipFill>
          <a:blip r:embed="rId2"/>
          <a:stretch/>
        </p:blipFill>
        <p:spPr>
          <a:xfrm>
            <a:off x="8388360" y="2492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4" name=""/>
          <p:cNvSpPr/>
          <p:nvPr/>
        </p:nvSpPr>
        <p:spPr>
          <a:xfrm>
            <a:off x="179280" y="712800"/>
            <a:ext cx="8964720" cy="3987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rPr>
              <a:t>Il 20 Maggio 19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rPr>
              <a:t> </a:t>
            </a:r>
            <a:r>
              <a:rPr b="0" lang="it-IT" sz="1600" spc="-1" strike="noStrike">
                <a:solidFill>
                  <a:srgbClr val="000000"/>
                </a:solidFill>
                <a:latin typeface="Franklin Gothic Medium"/>
              </a:rPr>
              <a:t>fu istituito il campo di Auschwit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rPr>
              <a:t> </a:t>
            </a:r>
            <a:r>
              <a:rPr b="0" lang="it-IT" sz="1600" spc="-1" strike="noStrike">
                <a:solidFill>
                  <a:srgbClr val="000000"/>
                </a:solidFill>
                <a:latin typeface="Franklin Gothic Medium"/>
              </a:rPr>
              <a:t>a nord est di Cracovia sotto il comando di Rudolf Hos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rPr>
              <a:t> </a:t>
            </a:r>
            <a:r>
              <a:rPr b="0" lang="it-IT" sz="1600" spc="-1" strike="noStrike">
                <a:solidFill>
                  <a:srgbClr val="000000"/>
                </a:solidFill>
                <a:latin typeface="Franklin Gothic Medium"/>
              </a:rPr>
              <a:t>Nei pressi del villaggio polacco di Oswjeci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rPr>
              <a:t> </a:t>
            </a:r>
            <a:r>
              <a:rPr b="0" lang="it-IT" sz="1600" spc="-1" strike="noStrike">
                <a:solidFill>
                  <a:srgbClr val="000000"/>
                </a:solidFill>
                <a:latin typeface="Franklin Gothic Medium"/>
              </a:rPr>
              <a:t>fu individuato un vasto terreno demanial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rPr>
              <a:t>che circondava una caserma d'artiglieria in disus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rPr>
              <a:t>Questo complesso di 3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rPr>
              <a:t> </a:t>
            </a:r>
            <a:r>
              <a:rPr b="0" lang="it-IT" sz="1600" spc="-1" strike="noStrike">
                <a:solidFill>
                  <a:srgbClr val="000000"/>
                </a:solidFill>
                <a:latin typeface="Franklin Gothic Medium"/>
              </a:rPr>
              <a:t>edifici poteva costituire il nucleo ideale per l'installazione del Lag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rPr>
              <a:t>Fra gli stagni di Oswieci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rPr>
              <a:t> </a:t>
            </a:r>
            <a:r>
              <a:rPr b="0" lang="it-IT" sz="1600" spc="-1" strike="noStrike">
                <a:solidFill>
                  <a:srgbClr val="000000"/>
                </a:solidFill>
                <a:latin typeface="Franklin Gothic Medium"/>
              </a:rPr>
              <a:t>sorse dal nulla la più grande fabbrica di sterminio nazist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rPr>
              <a:t>dove morirono alcuni milioni di deportati.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rPr>
              <a:t>Accanto al campo principa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rPr>
              <a:t> </a:t>
            </a:r>
            <a:r>
              <a:rPr b="0" lang="it-IT" sz="1600" spc="-1" strike="noStrike">
                <a:solidFill>
                  <a:srgbClr val="000000"/>
                </a:solidFill>
                <a:latin typeface="Franklin Gothic Medium"/>
              </a:rPr>
              <a:t>sorsero ben presto altri due camp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rPr>
              <a:t> </a:t>
            </a:r>
            <a:r>
              <a:rPr b="0" lang="it-IT" sz="1600" spc="-1" strike="noStrike">
                <a:solidFill>
                  <a:srgbClr val="000000"/>
                </a:solidFill>
                <a:latin typeface="Franklin Gothic Medium"/>
              </a:rPr>
              <a:t>Birkenau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rPr>
              <a:t> </a:t>
            </a:r>
            <a:r>
              <a:rPr b="0" lang="it-IT" sz="1600" spc="-1" strike="noStrike">
                <a:solidFill>
                  <a:srgbClr val="000000"/>
                </a:solidFill>
                <a:latin typeface="Franklin Gothic Medium"/>
              </a:rPr>
              <a:t>Monowit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5" name=""/>
          <p:cNvSpPr/>
          <p:nvPr/>
        </p:nvSpPr>
        <p:spPr>
          <a:xfrm>
            <a:off x="0" y="-159480"/>
            <a:ext cx="9144000" cy="7364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Franklin Gothic Medium"/>
                <a:ea typeface="Arial"/>
              </a:rPr>
              <a:t>La costruzione del campo di concentramento</a:t>
            </a:r>
            <a:r>
              <a:rPr b="0" lang="it-IT" sz="3000" spc="-1" strike="noStrike">
                <a:solidFill>
                  <a:srgbClr val="000000"/>
                </a:solidFill>
                <a:latin typeface="Franklin Gothic Medium"/>
                <a:ea typeface="Arial"/>
              </a:rPr>
              <a:t>:</a:t>
            </a:r>
            <a:r>
              <a:rPr b="0" lang="it-IT" sz="1600" spc="-1" strike="noStrike">
                <a:solidFill>
                  <a:srgbClr val="000000"/>
                </a:solidFill>
                <a:latin typeface="Franklin Gothic Medium"/>
                <a:ea typeface="Arial"/>
              </a:rPr>
              <a:t> I tedeschi visti i piani e sentiti i pareri degli esperti decisero di costruire un campo della capacità di almeno 100.000 persone, nello stesso tempo fu anche deciso di costruirvi uno stabilimento per la produzione di gomma sintetica della IG Farben, che avrebbe assorbito i primi contingenti di deportati. Da Sachsenhausen 30 «triangoli verdi», accuratamente scelti, furono trasferiti sul posto, per assumervi le funzioni di Kapò e presiedere ai lavori di sistemazione e alla costruzione delle officine, dei depositi e delle altre installazioni. Intanto si stendevano le recinzioni di filo spinato, si costruivano altre baracche, cucine, magazzini, caserme per i corpi di guardia, strade e raccordi ferroviari. Migliaia di prigionieri russi e polacchi cominciarono ad affluire ad Auschwitz, per contribuire ai lavori, per lavorare a loro volta nelle aziende agricole e nelle fabbriche che sorgevano come funghi intorno al campo. Si trattava di imprese a bassi costi di produzione, dato che la manodopera era quella pressoché gratuita fornita dal Lager. Poi c'erano i contratti di appalto, dai quali l'Amministrazione delle SS ritagliava generosamente la propria fetta di guadagno. </a:t>
            </a:r>
            <a:br>
              <a:rPr sz="1600"/>
            </a:br>
            <a:r>
              <a:rPr b="0" lang="it-IT" sz="1600" spc="-1" strike="noStrike">
                <a:solidFill>
                  <a:srgbClr val="000000"/>
                </a:solidFill>
                <a:latin typeface="Franklin Gothic Medium"/>
                <a:ea typeface="Arial"/>
              </a:rPr>
              <a:t>Il campo principale, in breve, non fu più sufficiente. Accanto ad Auschwitz I, sorsero prima Birkenau, cioè Auschwitz II, poi Monowitz, ossia Auschwitz III. Ma, oltre a questi Lager, si moltiplicavano, i comandi esterni, permanenti o temporanei. Un immenso territorio, rigorosamente isolato dal resto del mondo, brulicava di deportati, uomini e donne, provenienti da tutti i paesi invasi ed occupati dai nazisti. Auschwitz era una vera e propria zona industriale, in pieno fervore di attività</a:t>
            </a:r>
            <a:r>
              <a:rPr b="0" lang="it-IT" sz="1600" spc="-1" strike="noStrike">
                <a:solidFill>
                  <a:srgbClr val="ff3300"/>
                </a:solidFill>
                <a:latin typeface="Franklin Gothic Medium"/>
                <a:ea typeface="Arial"/>
              </a:rPr>
              <a:t>.</a:t>
            </a:r>
            <a:br>
              <a:rPr sz="1600"/>
            </a:br>
            <a:r>
              <a:rPr b="0" lang="it-IT" sz="1600" spc="-1" strike="noStrike">
                <a:solidFill>
                  <a:srgbClr val="000000"/>
                </a:solidFill>
                <a:latin typeface="Franklin Gothic Medium"/>
                <a:ea typeface="Arial"/>
              </a:rPr>
              <a:t>La manodopera non mancava, continuamente sostituita dai nuovi arrivi, coloro che, arrivando al campo, erano considerati abili al lavoro, le prospettive di sopravvivenza non superavano i tre mesi a causa della denutrizione, del clima, della fatica e dei nazisti.</a:t>
            </a:r>
            <a:br>
              <a:rPr sz="1600"/>
            </a:br>
            <a:r>
              <a:rPr b="0" lang="it-IT" sz="1600" spc="-1" strike="noStrike">
                <a:solidFill>
                  <a:srgbClr val="000000"/>
                </a:solidFill>
                <a:latin typeface="Franklin Gothic Medium"/>
                <a:ea typeface="Arial"/>
              </a:rPr>
              <a:t>I deportati che giungevano da tutta Europa in vagoni piombati venivano selezionati: un medico, un ufficiale o un semplice SS, giudicando dall'aspetto esteriore decideva se far lavorare una persona o mandarla alle camere a gas. Anche in questo campo i medici nazisti sottoposero i prigionieri ad esperimenti medici in particolare sono da segnalare quelli del dottor Carl Clauberg per preparare un metodo rapido per lo sterminio biologico della popolazione slav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graphicFrame>
        <p:nvGraphicFramePr>
          <p:cNvPr id="46" name=""/>
          <p:cNvGraphicFramePr/>
          <p:nvPr/>
        </p:nvGraphicFramePr>
        <p:xfrm>
          <a:off x="285840" y="2286000"/>
          <a:ext cx="8572320" cy="2779560"/>
        </p:xfrm>
        <a:graphic>
          <a:graphicData uri="http://schemas.openxmlformats.org/drawingml/2006/table">
            <a:tbl>
              <a:tblPr/>
              <a:tblGrid>
                <a:gridCol w="4286160"/>
                <a:gridCol w="4286160"/>
              </a:tblGrid>
              <a:tr h="3014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ea typeface="Arial"/>
                        </a:rPr>
                        <a:t>Ingresso del campo di concentramento</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Franklin Gothic Medium"/>
                          <a:ea typeface="Times New Roman"/>
                        </a:rPr>
                        <a:t> </a:t>
                      </a:r>
                      <a:r>
                        <a:rPr b="0" lang="en-US" sz="1600" spc="-1" strike="noStrike">
                          <a:solidFill>
                            <a:srgbClr val="000000"/>
                          </a:solidFill>
                          <a:latin typeface="Franklin Gothic Medium"/>
                          <a:ea typeface="Arial"/>
                        </a:rPr>
                        <a:t>Rudolf Höss, ufficiale delle SS, fu per due anni il comandante del più grande campo di sterminio nazista, quello di Auschwitz, dove vennero uccisi circa due milioni di ebrei. Processato da un tribunale polacco alla fine della guerra, venne condannato a morte.</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47" name="" descr=""/>
          <p:cNvPicPr/>
          <p:nvPr/>
        </p:nvPicPr>
        <p:blipFill>
          <a:blip r:embed="rId1"/>
          <a:stretch/>
        </p:blipFill>
        <p:spPr>
          <a:xfrm>
            <a:off x="684360" y="692280"/>
            <a:ext cx="3671640" cy="2305080"/>
          </a:xfrm>
          <a:prstGeom prst="rect">
            <a:avLst/>
          </a:prstGeom>
          <a:ln w="0">
            <a:noFill/>
          </a:ln>
        </p:spPr>
      </p:pic>
      <p:pic>
        <p:nvPicPr>
          <p:cNvPr id="48" name="" descr=""/>
          <p:cNvPicPr/>
          <p:nvPr/>
        </p:nvPicPr>
        <p:blipFill>
          <a:blip r:embed="rId2"/>
          <a:stretch/>
        </p:blipFill>
        <p:spPr>
          <a:xfrm>
            <a:off x="5940360" y="907920"/>
            <a:ext cx="208764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9" name=""/>
          <p:cNvSpPr/>
          <p:nvPr/>
        </p:nvSpPr>
        <p:spPr>
          <a:xfrm>
            <a:off x="0" y="425160"/>
            <a:ext cx="9144000" cy="2527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Medium"/>
              </a:rPr>
              <a:t>Il </a:t>
            </a:r>
            <a:r>
              <a:rPr b="1" lang="en-US" sz="1600" spc="-1" strike="noStrike">
                <a:solidFill>
                  <a:srgbClr val="000000"/>
                </a:solidFill>
                <a:latin typeface="Franklin Gothic Medium"/>
              </a:rPr>
              <a:t>Blocco 10</a:t>
            </a:r>
            <a:r>
              <a:rPr b="0" lang="en-US" sz="1600" spc="-1" strike="noStrike">
                <a:solidFill>
                  <a:srgbClr val="000000"/>
                </a:solidFill>
                <a:latin typeface="Franklin Gothic Medium"/>
              </a:rPr>
              <a:t> era la baracca degli esperimenti medici ad Auschwitz. Medici tedeschi, la maggior parte dei quali partecipava alle selezioni, chiesero il permesso di venire a lavorare nel Block 10 ad Auschwitz con soggetti umani. Il Blocco 10 era un bilancio d’orrori. Essere un soggetto sperimentale poteva prolungare la vita, o porvi fine immediatamente. Un prigioniero qui assegnato poteva affrontare prove dermatologiche di reazione a sostanze relativamente benigne, o ricevere un’iniezione di fenolo nel cuore per la dissezione immediata. Qui regnava il Dott. Mengele, il più malvagio degli uomini ad Auschwitz; Il Blocco 10 era nella sezione maschile del campo, ma la maggior parte dei suoi internati erano don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pic>
        <p:nvPicPr>
          <p:cNvPr id="50" name="" descr=""/>
          <p:cNvPicPr/>
          <p:nvPr/>
        </p:nvPicPr>
        <p:blipFill>
          <a:blip r:embed="rId1"/>
          <a:stretch/>
        </p:blipFill>
        <p:spPr>
          <a:xfrm>
            <a:off x="0" y="2997360"/>
            <a:ext cx="2771640" cy="1904760"/>
          </a:xfrm>
          <a:prstGeom prst="rect">
            <a:avLst/>
          </a:prstGeom>
          <a:ln w="0">
            <a:noFill/>
          </a:ln>
        </p:spPr>
      </p:pic>
      <p:graphicFrame>
        <p:nvGraphicFramePr>
          <p:cNvPr id="51" name=""/>
          <p:cNvGraphicFramePr/>
          <p:nvPr/>
        </p:nvGraphicFramePr>
        <p:xfrm>
          <a:off x="4716360" y="2205000"/>
          <a:ext cx="2224080" cy="4652640"/>
        </p:xfrm>
        <a:graphic>
          <a:graphicData uri="http://schemas.openxmlformats.org/drawingml/2006/table">
            <a:tbl>
              <a:tblPr/>
              <a:tblGrid>
                <a:gridCol w="2224080"/>
              </a:tblGrid>
              <a:tr h="4813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Times New Roman"/>
                          <a:ea typeface="Times New Roman"/>
                        </a:rPr>
                        <a:t>  </a:t>
                      </a:r>
                      <a:r>
                        <a:rPr b="0" lang="en-US" sz="7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Medium"/>
                          <a:ea typeface="Arial"/>
                        </a:rPr>
                        <a:t>Il Fenolo</a:t>
                      </a:r>
                      <a:br>
                        <a:rPr sz="1600"/>
                      </a:br>
                      <a:r>
                        <a:rPr b="0" lang="en-US" sz="1600" spc="-1" strike="noStrike">
                          <a:solidFill>
                            <a:srgbClr val="000000"/>
                          </a:solidFill>
                          <a:latin typeface="Franklin Gothic Medium"/>
                          <a:ea typeface="Arial"/>
                        </a:rPr>
                        <a:t>L’offerta di vittime ad Auschwitz era così abbondante che queste erano esportate verso tutti gli altri siti dove vi era necessità di soggetti sperimentali.</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52" name="" descr=""/>
          <p:cNvPicPr/>
          <p:nvPr/>
        </p:nvPicPr>
        <p:blipFill>
          <a:blip r:embed="rId2"/>
          <a:stretch/>
        </p:blipFill>
        <p:spPr>
          <a:xfrm>
            <a:off x="4572000" y="2924280"/>
            <a:ext cx="2286000" cy="12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3" name=""/>
          <p:cNvSpPr/>
          <p:nvPr/>
        </p:nvSpPr>
        <p:spPr>
          <a:xfrm>
            <a:off x="2340000" y="1916280"/>
            <a:ext cx="45720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più utilizzato di tutti i metodi d’uccisio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d Auschwitz era l’iniezione di feno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he fu istituzionalizzat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lle fasi relativamente iniziali di Auschwit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Il paziente era portato in un ambulatori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 lì gli era somministrato un farmac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da un medico 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nella maggior parte dei ca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dal suo infermi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che indossava il camice bianc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 usava ago e siring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er l’iniezion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4" name=""/>
          <p:cNvSpPr/>
          <p:nvPr/>
        </p:nvSpPr>
        <p:spPr>
          <a:xfrm>
            <a:off x="0" y="83880"/>
            <a:ext cx="9144000" cy="4325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Arial"/>
              </a:rPr>
              <a:t>Le camere a gas</a:t>
            </a:r>
            <a:br>
              <a:rPr sz="3000"/>
            </a:br>
            <a:r>
              <a:rPr b="0" lang="en-US" sz="1600" spc="-1" strike="noStrike">
                <a:solidFill>
                  <a:srgbClr val="000000"/>
                </a:solidFill>
                <a:latin typeface="Franklin Gothic Medium"/>
                <a:ea typeface="Arial"/>
              </a:rPr>
              <a:t>Le selezioni per la camera a gas erano fatte all’arrivo al campo, e periodicamente per eliminare i "mussulmani" man mano che s’indebolivano. I dottori di Auschwitz erano strettamente coinvolti nel processo di selezione. Molte testimonianze raccontano come il dott. Mengele attendesse i trasporti alla rampa, vestito impeccabilmente, fischiettando tra sé mentre segnalava con un gesto della mano la destra (vita) o la sinistra (morte). I bambini, le madri, gli anziani e tutti coloro che erano troppo deboli per lavorare erano mandati nelle camere a gas ad Auschwitz. Le selezioni al campo erano fatte durante gli appelli. I prigionieri erano obbligati a stare in piedi al freddo nudi, spesso per ore ed ore, mentre i medici e le SS li esaminavano per decidere chi sarebbe vissuto e chi sarebbe morto. Gli internati sapevano di dover correre sul posto e mostrare ogni residua energia, per evitare di essere mandati a mor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ea typeface="Times New Roman"/>
              </a:rPr>
              <a:t>                                                                                                        </a:t>
            </a:r>
            <a:br>
              <a:rPr sz="1800"/>
            </a:br>
            <a:r>
              <a:rPr b="0" lang="en-US" sz="1800" spc="-1" strike="noStrike">
                <a:solidFill>
                  <a:srgbClr val="000000"/>
                </a:solidFill>
                <a:latin typeface="Franklin Gothic Medium"/>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ea typeface="Times New Roman"/>
              </a:rPr>
              <a:t>                        </a:t>
            </a:r>
            <a:endParaRPr b="0" lang="en-US" sz="1800" spc="-1" strike="noStrike">
              <a:solidFill>
                <a:srgbClr val="000000"/>
              </a:solidFill>
              <a:latin typeface="Arial"/>
            </a:endParaRPr>
          </a:p>
        </p:txBody>
      </p:sp>
      <p:pic>
        <p:nvPicPr>
          <p:cNvPr id="55" name="" descr=""/>
          <p:cNvPicPr/>
          <p:nvPr/>
        </p:nvPicPr>
        <p:blipFill>
          <a:blip r:embed="rId1"/>
          <a:stretch/>
        </p:blipFill>
        <p:spPr>
          <a:xfrm>
            <a:off x="2943360" y="3933720"/>
            <a:ext cx="3860640" cy="230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24000" y="692280"/>
            <a:ext cx="8028000" cy="52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7" name=""/>
          <p:cNvSpPr/>
          <p:nvPr/>
        </p:nvSpPr>
        <p:spPr>
          <a:xfrm>
            <a:off x="0" y="1413000"/>
            <a:ext cx="9144000" cy="514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I forni crematori</a:t>
            </a:r>
            <a:r>
              <a:rPr b="1" lang="it-IT" sz="3000" spc="-1" strike="noStrike">
                <a:solidFill>
                  <a:srgbClr val="ff3300"/>
                </a:solidFill>
                <a:latin typeface="Arial"/>
              </a:rPr>
              <a:t>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lcuni cadaveri venivano trascinati direttamente verso i forni. Altri venivano portati nel magazzino dei cadaveri di fronte al montacarichi, che serviva anche come luogo per le esecuzioni capitali mediante la fucilazione. Subito prima dell’incenerazione, i prigionieri del Sonderkommando rimuovevano i gioielli, che gettavano in apposite cassette numerate; denti con otturazioni di metallo, corone e ponti d’oro o fatti con altri metalli preziosi venivano estratti dalle bocche delle vittime gassate e depositati in una cassa marcata "Zahnstation" (stazione dentale). Dopo di che erano rimosse dai pozzi e gettate nella Vistola o utilizzate per preparare terriccio e per fertilizzare i terreni delle fattorie del campo. </a:t>
            </a:r>
            <a:br>
              <a:rPr sz="1600"/>
            </a:br>
            <a:r>
              <a:rPr b="1" lang="it-IT" sz="1600" spc="-1" strike="noStrike">
                <a:solidFill>
                  <a:srgbClr val="000000"/>
                </a:solidFill>
                <a:latin typeface="Arial"/>
              </a:rPr>
              <a:t>Per quantità e qualità, Auschwitz è stato il Lager dove l'inventario degli orrori e della morte ha assunto dimensioni apocalittiche. Stando alle ammissioni di Rudolf Höss che fu comandante di quel Lager dal 1940 al 1942, solo in quel periodo furono assassinati nelle camere a gas non meno di 4.200.000 individui d'ogni età e condizione. Alle SS il Lager rendeva anche quando gli schiavi erano morti. C'erano le loro spoglie da dividere. Treni interi di indumenti sottratti ai deportati, camion carichi di casse di gioielli e denaro furono spediti da Auschwitz a Berlino, al quartier generale delle SS: anche questi erano i proventi della «soluzione finale».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0:34:53Z</dcterms:created>
  <dc:creator>ist. comp. Bienno</dc:creator>
  <dc:description/>
  <dc:language>en-US</dc:language>
  <cp:lastModifiedBy>utente</cp:lastModifiedBy>
  <dcterms:modified xsi:type="dcterms:W3CDTF">2013-01-25T10:58:46Z</dcterms:modified>
  <cp:revision>16</cp:revision>
  <dc:subject/>
  <dc:title>Diapositiva 1</dc:title>
</cp:coreProperties>
</file>