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950-0181-46C0-9A87-B783F85C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E34-8AD1-463F-AC81-9C3D25C5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D30-EF02-4E14-BF0E-F393B56E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BC9-CCD9-441E-B999-86FF43A5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E860-984B-4D06-AF7A-45EEB190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D370-C819-4F5F-A5E7-8697ADBF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2479-F3FB-46D3-82F3-D75569C2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A0FF-F0EA-4D7C-944A-62E29EB7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C0E7-7E97-485A-905B-85DC92CB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E4AF-187F-4602-9FE7-52FCF16D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8C14-F51A-44E4-AB4E-29E58BF6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9568-FC8B-412C-8C10-EB0BB659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0AD6-5036-486C-94E5-9BE85682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4A9A-2C37-4FF5-A8FA-BE6AB0C1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E32D-3008-4341-B7D0-23ED3E6B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6D3A-E1C9-4664-B287-668533EE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09F1-3BAF-4CE0-B418-A574A056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4292-77E1-4859-A975-EA286555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88504-2C01-4F1A-98D4-E8DDC4A3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FBA3B-FD28-4895-AC91-5F44B828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5B2CC-9755-4926-9A70-3DB2AD82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12B0-9373-471C-B173-E93789A8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6846-B1D1-4BF4-9029-9FE5F312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81A8-5C10-4E1C-85DA-F6A7C261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5EF6D-C837-475D-81D5-DC66381E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C7308-6F8E-499C-82AA-9875CD7D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F1C02-3248-434E-B4E7-B27CC0AB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BECE-B85B-4EC8-BE9A-AD923082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576D4-4D06-493A-B08B-EDF10EC2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2F787-976B-4B31-B8A0-B0107880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7B5A8-0AFA-46E9-9F21-D7C05D85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B86DD-68C4-496F-9558-336F4634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E3145-D38E-498C-98E1-929E80DE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9F4-10E3-4F81-AB9E-79843553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59EEE-3F89-4B87-AAC2-6A1C689C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A90DA-1556-45E0-B33B-1FF599FC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D027F-97C2-4700-8AE2-34029D7F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C7986-8696-4C3E-B35F-70BAE085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70DD9-DB98-4AFD-91B2-6B874B28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3850-7BC1-43EF-B552-BD6707F4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E1CFA-2D5E-4E4B-91AC-2CAA3091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1532A-CFF6-499C-AD82-70D04967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418F7-5E99-4075-9DC2-4BF29A03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10B-6BC6-4362-B184-353E61B2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0D8-66A2-4671-BD23-6CC8F02D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69A-37D4-416F-BE40-16A330A8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4E5-3D02-46BA-91E8-D7105487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E13-635D-407F-9EC3-65FC2E39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298A-5E0A-406A-971B-C11CD757507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DAB0-0E38-4B72-B9A0-5450E1F62B5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A6A9-DEB3-42D2-AE74-C140B5171E0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968A-DE98-4205-A2CC-CB06DA0DC3C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826920" y="3933360"/>
            <a:ext cx="77457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c9e1f"/>
                </a:solidFill>
                <a:latin typeface="Arial Narrow"/>
              </a:rPr>
              <a:t>Il </a:t>
            </a:r>
            <a:r>
              <a:rPr b="1" lang="it-IT" sz="2400" spc="-1" strike="noStrike">
                <a:solidFill>
                  <a:srgbClr val="dc9e1f"/>
                </a:solidFill>
                <a:latin typeface="Arial Narrow"/>
              </a:rPr>
              <a:t>campo di concentramento di Auschwitz</a:t>
            </a:r>
            <a:r>
              <a:rPr b="0" lang="it-IT" sz="2400" spc="-1" strike="noStrike">
                <a:solidFill>
                  <a:srgbClr val="dc9e1f"/>
                </a:solidFill>
                <a:latin typeface="Arial Narrow"/>
              </a:rPr>
              <a:t> fu uno dei tre campi principali che formavano il complesso concentrazionario situato nelle vicinanze di Auschwitz in Polonia . Facevano parte del complesso anche il campo di sterminio di Birkenau, il campo di lavoro di Monowitz , ed i restanti 45 sotto campi costruiti durante l'occupazione tedesca della Poloni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539280" y="981000"/>
            <a:ext cx="7812360" cy="19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USCHWITZ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UN CAMPO DI CONCENTRAMENTO</a:t>
            </a:r>
            <a:br>
              <a:rPr sz="4800"/>
            </a:br>
            <a:r>
              <a:rPr b="1" lang="en-US" sz="3200" spc="-1" strike="noStrike">
                <a:solidFill>
                  <a:srgbClr val="ffc000"/>
                </a:solidFill>
                <a:latin typeface="Arial Narrow"/>
              </a:rPr>
              <a:t>LAVORO DI PINI  MATTE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L’ 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ntrata c’ è ma l’uscita ?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1680" y="609264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 Narrow"/>
              </a:rPr>
              <a:t>Il complesso dei campi di Auschwitz diventò rapidamente il più grande ed efficiente centro di sterminio nazista.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920" y="836640"/>
            <a:ext cx="9136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646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Narrow"/>
              </a:rPr>
              <a:t>QUANTI  PRIGIONIERI ………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5949720"/>
            <a:ext cx="91440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ffff"/>
                </a:solidFill>
                <a:latin typeface="Arial Narrow"/>
              </a:rPr>
              <a:t>Reso operativo dal 14 giugno 1940 e centro amministrativo dell‘ intero complesso il campo di </a:t>
            </a:r>
            <a:r>
              <a:rPr b="1" lang="it-IT" sz="1800" spc="-1" strike="noStrike">
                <a:solidFill>
                  <a:srgbClr val="ffffff"/>
                </a:solidFill>
                <a:latin typeface="Arial Narrow"/>
              </a:rPr>
              <a:t>Auschwitz contava un numero di prigionieri giornaliero intorno alle 15 / 20 mila unità</a:t>
            </a:r>
            <a:r>
              <a:rPr b="0" lang="it-IT" sz="1700" spc="-1" strike="noStrike">
                <a:solidFill>
                  <a:srgbClr val="ffffff"/>
                </a:solidFill>
                <a:latin typeface="Arial Narrow"/>
              </a:rPr>
              <a:t>. In tutti gli anni d’ attività morirono circa 70 000 persone per  fame , torture , esecuzioni o nelle camere a gas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4" name="Picture 2" descr="http://t0.gstatic.com/images?q=tbn:ANd9GcSnYY66EiDKiWOWqVRyitpZPH6KV1qQ9HUSMXdflKn88qhA9Mbn"/>
          <p:cNvPicPr/>
          <p:nvPr/>
        </p:nvPicPr>
        <p:blipFill>
          <a:blip r:embed="rId1"/>
          <a:stretch/>
        </p:blipFill>
        <p:spPr>
          <a:xfrm>
            <a:off x="-6480" y="907920"/>
            <a:ext cx="9150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640"/>
            <a:ext cx="91440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  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LA STORIA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36640"/>
            <a:ext cx="9144000" cy="4680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 Narrow"/>
              </a:rPr>
              <a:t>Auschwitz fu inizialmente fondato come campo di concentramento e di smistamento dei prigionieri di origine polacca e non specificatamente per lo sterminio del popolo ebraico. Infatti, nonostante il violento antisemitismo proprio della dittatura nazionalsocialista, all'epoca della fondazione del campo Hitler e i gerarchi del Reich non avevano ancora trovato quella che, eufemisticamente denominarono in seguito, la soluzione finale del problema ebraico . Tale soluzione sarebbe stata decisa da Hitler tra l'ottobre e il dicembre 1941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 Narrow"/>
              </a:rPr>
              <a:t>e pianificata nel corso della Conferenza di Wannsee del 20 gennaio 1942 , durante la quale si decise lo sterminio scientifico del popolo ebraico (e di altre minoranze) e che diede avvio, dalla metà del 1942 , alla fase più brutale dell'Olocausto, quella del genocidio. Per quella data ad Auschwitz era stato reso pienamente operativo ed efficiente il grande complesso di sterminio di Birkenau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4920" y="1052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ffff"/>
                </a:solidFill>
                <a:uFillTx/>
                <a:latin typeface="Arial Narrow"/>
              </a:rPr>
              <a:t>I SOTTOCAMPI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0920" y="16286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ERANO SITUATI NELLE VICINANZE DEI TRE CAMPI PRINCIPALI. AVEVANO GLI OBIETTIVI DI FAR LAVORARE I PRIGIONIERI IN AMBITI DI ALLEVAMENTO, AGRICOLTURA E COSTRUZIONE DI FATTORIE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7640" y="4016520"/>
            <a:ext cx="4001760" cy="2852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5073480" y="4005360"/>
            <a:ext cx="40705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2960" y="890640"/>
            <a:ext cx="49690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ALCUNE IMMAGINI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"/>
          <p:cNvSpPr txBox="1"/>
          <p:nvPr/>
        </p:nvSpPr>
        <p:spPr>
          <a:xfrm rot="10800000">
            <a:off x="9756720" y="2144880"/>
            <a:ext cx="504720" cy="80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AutoShape 2"/>
          <p:cNvSpPr/>
          <p:nvPr/>
        </p:nvSpPr>
        <p:spPr>
          <a:xfrm>
            <a:off x="0" y="-898560"/>
            <a:ext cx="241920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9147240" y="196920"/>
            <a:ext cx="241920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2916360" cy="2273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3419640" y="1413000"/>
            <a:ext cx="3097080" cy="2239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3"/>
          <a:stretch/>
        </p:blipFill>
        <p:spPr>
          <a:xfrm>
            <a:off x="34920" y="3860640"/>
            <a:ext cx="3570120" cy="237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4"/>
          <a:stretch/>
        </p:blipFill>
        <p:spPr>
          <a:xfrm>
            <a:off x="6875640" y="1413000"/>
            <a:ext cx="2124000" cy="2273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5"/>
          <a:stretch/>
        </p:blipFill>
        <p:spPr>
          <a:xfrm>
            <a:off x="3851280" y="3860640"/>
            <a:ext cx="2665440" cy="2376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6"/>
          <a:stretch/>
        </p:blipFill>
        <p:spPr>
          <a:xfrm>
            <a:off x="6948360" y="3860640"/>
            <a:ext cx="20862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07:10:34Z</dcterms:created>
  <dc:creator>Bambini</dc:creator>
  <dc:description/>
  <dc:language>en-US</dc:language>
  <cp:lastModifiedBy>utente</cp:lastModifiedBy>
  <cp:lastPrinted>2013-01-02T08:19:46Z</cp:lastPrinted>
  <dcterms:modified xsi:type="dcterms:W3CDTF">2013-01-24T09:10:13Z</dcterms:modified>
  <cp:revision>16</cp:revision>
  <dc:subject/>
  <dc:title>Auschwitz un campo di concentramento</dc:title>
</cp:coreProperties>
</file>